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0AB3-D607-4F0A-910D-5CE862008E74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DDFA-599C-4EC7-BF12-4A9F7507D9A1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489B-A735-484F-9145-5EE79443884F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DED6-DCE2-4880-9AEA-12A4678DA03A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슬라이드 번호 개체 틀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9ED2-CDAE-40F2-8B5E-65C9861C596E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8C89-CB3F-43B8-8269-D3A7385E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7549-FBA9-4F89-A99F-CF47A851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A58-64AA-44A5-AEC7-71116DA7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9F48-0FC8-4494-B3ED-80A567E0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B888-56FD-4B3E-BDCE-5004D101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E271-7B7F-49D9-AB9D-8443AFB3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69B8-FF09-48CC-B969-E6612769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FBF5-B73B-4CC1-B0DE-B366A778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26C3-B344-4AFA-9437-DCFA20C2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F058-2512-4D5F-8746-43032777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10F2-741E-45F1-91BF-FB14D6BF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57F4-5BB9-406F-BB38-26270318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FCA6-AC9F-4845-A5A7-D6627476D220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평행 사변형 3"/>
          <p:cNvSpPr/>
          <p:nvPr/>
        </p:nvSpPr>
        <p:spPr>
          <a:xfrm>
            <a:off x="1425600" y="612720"/>
            <a:ext cx="10588680" cy="127080"/>
          </a:xfrm>
          <a:prstGeom prst="parallelogram">
            <a:avLst>
              <a:gd name="adj" fmla="val -11540"/>
            </a:avLst>
          </a:prstGeom>
          <a:gradFill rotWithShape="0">
            <a:gsLst>
              <a:gs pos="0">
                <a:srgbClr val="f7fafd"/>
              </a:gs>
              <a:gs pos="100000">
                <a:srgbClr val="cee1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27080" y="236520"/>
            <a:ext cx="15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75b6"/>
                </a:solidFill>
                <a:latin typeface="휴먼둥근헤드라인"/>
                <a:ea typeface="휴먼둥근헤드라인"/>
              </a:rPr>
              <a:t>3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75b6"/>
                </a:solidFill>
                <a:latin typeface="휴먼둥근헤드라인"/>
                <a:ea typeface="휴먼둥근헤드라인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바닥글 개체 틀 5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</a:t>
            </a: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주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) 3R-GLO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슬라이드 번호 개체 틀 6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F5F1-A018-49F2-BB95-1DCD31FB73CF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1406160" y="293760"/>
            <a:ext cx="30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 INSTALL &amp; SET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982080" y="66600"/>
          <a:ext cx="1905120" cy="546120"/>
        </p:xfrm>
        <a:graphic>
          <a:graphicData uri="http://schemas.openxmlformats.org/drawingml/2006/table">
            <a:tbl>
              <a:tblPr/>
              <a:tblGrid>
                <a:gridCol w="635040"/>
                <a:gridCol w="635040"/>
                <a:gridCol w="635040"/>
              </a:tblGrid>
              <a:tr h="171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작  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검  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승  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4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pic>
        <p:nvPicPr>
          <p:cNvPr id="54" name="그림 2" descr=""/>
          <p:cNvPicPr/>
          <p:nvPr/>
        </p:nvPicPr>
        <p:blipFill>
          <a:blip r:embed="rId1"/>
          <a:stretch/>
        </p:blipFill>
        <p:spPr>
          <a:xfrm>
            <a:off x="1400040" y="1593720"/>
            <a:ext cx="819360" cy="771480"/>
          </a:xfrm>
          <a:prstGeom prst="rect">
            <a:avLst/>
          </a:prstGeom>
          <a:ln w="0">
            <a:noFill/>
          </a:ln>
        </p:spPr>
      </p:pic>
      <p:sp>
        <p:nvSpPr>
          <p:cNvPr id="55" name="TextBox 19"/>
          <p:cNvSpPr/>
          <p:nvPr/>
        </p:nvSpPr>
        <p:spPr>
          <a:xfrm>
            <a:off x="958680" y="1316160"/>
            <a:ext cx="45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rom FTP, Download a recovery program and Install the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9"/>
          <p:cNvSpPr/>
          <p:nvPr/>
        </p:nvSpPr>
        <p:spPr>
          <a:xfrm>
            <a:off x="958680" y="2719440"/>
            <a:ext cx="426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Insert a license key (Please check your emai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그림 7" descr=""/>
          <p:cNvPicPr/>
          <p:nvPr/>
        </p:nvPicPr>
        <p:blipFill>
          <a:blip r:embed="rId2"/>
          <a:stretch/>
        </p:blipFill>
        <p:spPr>
          <a:xfrm>
            <a:off x="1400040" y="2997360"/>
            <a:ext cx="43434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평행 사변형 3"/>
          <p:cNvSpPr/>
          <p:nvPr/>
        </p:nvSpPr>
        <p:spPr>
          <a:xfrm>
            <a:off x="1425600" y="612720"/>
            <a:ext cx="10588680" cy="127080"/>
          </a:xfrm>
          <a:prstGeom prst="parallelogram">
            <a:avLst>
              <a:gd name="adj" fmla="val -11540"/>
            </a:avLst>
          </a:prstGeom>
          <a:gradFill rotWithShape="0">
            <a:gsLst>
              <a:gs pos="0">
                <a:srgbClr val="f7fafd"/>
              </a:gs>
              <a:gs pos="100000">
                <a:srgbClr val="cee1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27080" y="236520"/>
            <a:ext cx="15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75b6"/>
                </a:solidFill>
                <a:latin typeface="휴먼둥근헤드라인"/>
                <a:ea typeface="휴먼둥근헤드라인"/>
              </a:rPr>
              <a:t>3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75b6"/>
                </a:solidFill>
                <a:latin typeface="휴먼둥근헤드라인"/>
                <a:ea typeface="휴먼둥근헤드라인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바닥글 개체 틀 5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</a:t>
            </a: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주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) 3R-GLO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슬라이드 번호 개체 틀 6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9A7D-1050-48B2-B49D-2E943864A230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1421640" y="293760"/>
            <a:ext cx="44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HARD DISK Drive(HDD) TO RECOV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982080" y="66600"/>
          <a:ext cx="1905120" cy="546120"/>
        </p:xfrm>
        <a:graphic>
          <a:graphicData uri="http://schemas.openxmlformats.org/drawingml/2006/table">
            <a:tbl>
              <a:tblPr/>
              <a:tblGrid>
                <a:gridCol w="635040"/>
                <a:gridCol w="635040"/>
                <a:gridCol w="635040"/>
              </a:tblGrid>
              <a:tr h="171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작  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검  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승  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4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pic>
        <p:nvPicPr>
          <p:cNvPr id="64" name="그림 1" descr=""/>
          <p:cNvPicPr/>
          <p:nvPr/>
        </p:nvPicPr>
        <p:blipFill>
          <a:blip r:embed="rId1"/>
          <a:stretch/>
        </p:blipFill>
        <p:spPr>
          <a:xfrm>
            <a:off x="2413080" y="1090440"/>
            <a:ext cx="7365960" cy="4915080"/>
          </a:xfrm>
          <a:prstGeom prst="rect">
            <a:avLst/>
          </a:prstGeom>
          <a:ln w="0">
            <a:noFill/>
          </a:ln>
        </p:spPr>
      </p:pic>
      <p:sp>
        <p:nvSpPr>
          <p:cNvPr id="65" name="TextBox 19"/>
          <p:cNvSpPr/>
          <p:nvPr/>
        </p:nvSpPr>
        <p:spPr>
          <a:xfrm>
            <a:off x="441360" y="1720800"/>
            <a:ext cx="25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physical HD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Choose HDD to rec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직사각형 2"/>
          <p:cNvSpPr/>
          <p:nvPr/>
        </p:nvSpPr>
        <p:spPr>
          <a:xfrm>
            <a:off x="436680" y="1711440"/>
            <a:ext cx="4456080" cy="949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평행 사변형 3"/>
          <p:cNvSpPr/>
          <p:nvPr/>
        </p:nvSpPr>
        <p:spPr>
          <a:xfrm>
            <a:off x="1425600" y="612720"/>
            <a:ext cx="10588680" cy="127080"/>
          </a:xfrm>
          <a:prstGeom prst="parallelogram">
            <a:avLst>
              <a:gd name="adj" fmla="val -11540"/>
            </a:avLst>
          </a:prstGeom>
          <a:gradFill rotWithShape="0">
            <a:gsLst>
              <a:gs pos="0">
                <a:srgbClr val="f7fafd"/>
              </a:gs>
              <a:gs pos="100000">
                <a:srgbClr val="cee1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127080" y="236520"/>
            <a:ext cx="15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75b6"/>
                </a:solidFill>
                <a:latin typeface="휴먼둥근헤드라인"/>
                <a:ea typeface="휴먼둥근헤드라인"/>
              </a:rPr>
              <a:t>3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75b6"/>
                </a:solidFill>
                <a:latin typeface="휴먼둥근헤드라인"/>
                <a:ea typeface="휴먼둥근헤드라인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바닥글 개체 틀 5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</a:t>
            </a: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주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) 3R-GLO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슬라이드 번호 개체 틀 6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AB17-5E50-4F32-9114-7B9D25256499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1408320" y="29376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THE PARTITION IS ERAS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982080" y="66600"/>
          <a:ext cx="1905120" cy="546120"/>
        </p:xfrm>
        <a:graphic>
          <a:graphicData uri="http://schemas.openxmlformats.org/drawingml/2006/table">
            <a:tbl>
              <a:tblPr/>
              <a:tblGrid>
                <a:gridCol w="635040"/>
                <a:gridCol w="635040"/>
                <a:gridCol w="635040"/>
              </a:tblGrid>
              <a:tr h="171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작  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검  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승  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4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pic>
        <p:nvPicPr>
          <p:cNvPr id="73" name="그림 2" descr=""/>
          <p:cNvPicPr/>
          <p:nvPr/>
        </p:nvPicPr>
        <p:blipFill>
          <a:blip r:embed="rId1"/>
          <a:stretch/>
        </p:blipFill>
        <p:spPr>
          <a:xfrm>
            <a:off x="1425600" y="1332000"/>
            <a:ext cx="7043760" cy="2700360"/>
          </a:xfrm>
          <a:prstGeom prst="rect">
            <a:avLst/>
          </a:prstGeom>
          <a:ln w="0">
            <a:noFill/>
          </a:ln>
        </p:spPr>
      </p:pic>
      <p:sp>
        <p:nvSpPr>
          <p:cNvPr id="74" name="TextBox 19"/>
          <p:cNvSpPr/>
          <p:nvPr/>
        </p:nvSpPr>
        <p:spPr>
          <a:xfrm>
            <a:off x="932040" y="1058760"/>
            <a:ext cx="736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cover partition, right-click on the list and Select ‘Find lost partition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직사각형 7"/>
          <p:cNvSpPr/>
          <p:nvPr/>
        </p:nvSpPr>
        <p:spPr>
          <a:xfrm>
            <a:off x="3449520" y="2689200"/>
            <a:ext cx="1177920" cy="225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9"/>
          <p:cNvSpPr/>
          <p:nvPr/>
        </p:nvSpPr>
        <p:spPr>
          <a:xfrm>
            <a:off x="960480" y="3414600"/>
            <a:ext cx="549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Click ‘Find now menu’ and check LINUX JFS &amp; SGI XFS then click the ‘ok’ but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그림 8" descr=""/>
          <p:cNvPicPr/>
          <p:nvPr/>
        </p:nvPicPr>
        <p:blipFill>
          <a:blip r:embed="rId2"/>
          <a:stretch/>
        </p:blipFill>
        <p:spPr>
          <a:xfrm>
            <a:off x="1400040" y="3691080"/>
            <a:ext cx="2946600" cy="2454120"/>
          </a:xfrm>
          <a:prstGeom prst="rect">
            <a:avLst/>
          </a:prstGeom>
          <a:ln w="0">
            <a:noFill/>
          </a:ln>
        </p:spPr>
      </p:pic>
      <p:pic>
        <p:nvPicPr>
          <p:cNvPr id="78" name="그림 9" descr=""/>
          <p:cNvPicPr/>
          <p:nvPr/>
        </p:nvPicPr>
        <p:blipFill>
          <a:blip r:embed="rId3"/>
          <a:stretch/>
        </p:blipFill>
        <p:spPr>
          <a:xfrm>
            <a:off x="5014800" y="3691080"/>
            <a:ext cx="1970280" cy="24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평행 사변형 3"/>
          <p:cNvSpPr/>
          <p:nvPr/>
        </p:nvSpPr>
        <p:spPr>
          <a:xfrm>
            <a:off x="1425600" y="612720"/>
            <a:ext cx="10588680" cy="127080"/>
          </a:xfrm>
          <a:prstGeom prst="parallelogram">
            <a:avLst>
              <a:gd name="adj" fmla="val -11540"/>
            </a:avLst>
          </a:prstGeom>
          <a:gradFill rotWithShape="0">
            <a:gsLst>
              <a:gs pos="0">
                <a:srgbClr val="f7fafd"/>
              </a:gs>
              <a:gs pos="100000">
                <a:srgbClr val="cee1f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127080" y="236520"/>
            <a:ext cx="153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75b6"/>
                </a:solidFill>
                <a:latin typeface="휴먼둥근헤드라인"/>
                <a:ea typeface="휴먼둥근헤드라인"/>
              </a:rPr>
              <a:t>3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75b6"/>
                </a:solidFill>
                <a:latin typeface="휴먼둥근헤드라인"/>
                <a:ea typeface="휴먼둥근헤드라인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바닥글 개체 틀 5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</a:t>
            </a: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주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) 3R-GLO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슬라이드 번호 개체 틀 6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F4AC-C717-45C0-9CCC-B70D3A5F72AF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982080" y="66600"/>
          <a:ext cx="1905120" cy="546120"/>
        </p:xfrm>
        <a:graphic>
          <a:graphicData uri="http://schemas.openxmlformats.org/drawingml/2006/table">
            <a:tbl>
              <a:tblPr/>
              <a:tblGrid>
                <a:gridCol w="635040"/>
                <a:gridCol w="635040"/>
                <a:gridCol w="635040"/>
              </a:tblGrid>
              <a:tr h="171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작  성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검  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승  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4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pic>
        <p:nvPicPr>
          <p:cNvPr id="84" name="그림 1" descr=""/>
          <p:cNvPicPr/>
          <p:nvPr/>
        </p:nvPicPr>
        <p:blipFill>
          <a:blip r:embed="rId1"/>
          <a:stretch/>
        </p:blipFill>
        <p:spPr>
          <a:xfrm>
            <a:off x="1400040" y="1521000"/>
            <a:ext cx="6648480" cy="2276280"/>
          </a:xfrm>
          <a:prstGeom prst="rect">
            <a:avLst/>
          </a:prstGeom>
          <a:ln w="0">
            <a:noFill/>
          </a:ln>
        </p:spPr>
      </p:pic>
      <p:sp>
        <p:nvSpPr>
          <p:cNvPr id="85" name="TextBox 8"/>
          <p:cNvSpPr/>
          <p:nvPr/>
        </p:nvSpPr>
        <p:spPr>
          <a:xfrm>
            <a:off x="1406520" y="29376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LORE FI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932040" y="1058760"/>
            <a:ext cx="736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file, right-click on the partition se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‘Explore file system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그림 14" descr=""/>
          <p:cNvPicPr/>
          <p:nvPr/>
        </p:nvPicPr>
        <p:blipFill>
          <a:blip r:embed="rId2"/>
          <a:stretch/>
        </p:blipFill>
        <p:spPr>
          <a:xfrm>
            <a:off x="1392120" y="4211640"/>
            <a:ext cx="6656400" cy="2141640"/>
          </a:xfrm>
          <a:prstGeom prst="rect">
            <a:avLst/>
          </a:prstGeom>
          <a:ln w="0">
            <a:noFill/>
          </a:ln>
        </p:spPr>
      </p:pic>
      <p:sp>
        <p:nvSpPr>
          <p:cNvPr id="88" name="TextBox 19"/>
          <p:cNvSpPr/>
          <p:nvPr/>
        </p:nvSpPr>
        <p:spPr>
          <a:xfrm>
            <a:off x="932040" y="3865680"/>
            <a:ext cx="736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 Select the files you want to recover and right-click on the file then click  ‘copy to…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7T11:59:25Z</dcterms:created>
  <dc:creator>jisung jung</dc:creator>
  <dc:description/>
  <dc:language>en-US</dc:language>
  <cp:lastModifiedBy>Registered User</cp:lastModifiedBy>
  <dcterms:modified xsi:type="dcterms:W3CDTF">2013-10-13T04:30:39Z</dcterms:modified>
  <cp:revision>60</cp:revision>
  <dc:subject/>
  <dc:title>PowerPoint 프레젠테이션</dc:title>
</cp:coreProperties>
</file>