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15FD-55F0-4FCE-95C6-90884113A4F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EEE5-4C98-4CCE-AEE0-0B80C8B110D8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8354-7CC3-419E-9EB3-C696D09C186C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FED6-6D77-4755-9B19-DC750FC2B37B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2DCB-CA53-4D14-B26B-56D0B81CB64A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243-B2CB-44E5-8023-26A04539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7E2A-8E6B-4464-A988-331AC354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365-2BC2-4ED2-85C5-A65887B0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BD3-7C58-4FB5-9D54-22967750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A8B2-7A14-48D2-A5CE-E99D321C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B4F-3363-4985-BA4A-608DE3E5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C43-6D7E-4724-8930-3ACD31B6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D2E-6A6B-48AB-9DA2-D5A65CA9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DAD-BDCA-474B-A976-1F6FAD22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23A-5DF3-494C-B14D-80B78A19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481-6F35-4B6C-8F66-1EC0A8DB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106-E6B9-4A25-8CE5-CAECB0CA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0DD7-E3E7-44D3-AF80-86BD7D69CD3D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평행 사변형 3"/>
          <p:cNvSpPr/>
          <p:nvPr/>
        </p:nvSpPr>
        <p:spPr>
          <a:xfrm>
            <a:off x="1425600" y="612720"/>
            <a:ext cx="10588680" cy="127080"/>
          </a:xfrm>
          <a:prstGeom prst="parallelogram">
            <a:avLst>
              <a:gd name="adj" fmla="val -11540"/>
            </a:avLst>
          </a:prstGeom>
          <a:gradFill rotWithShape="0">
            <a:gsLst>
              <a:gs pos="0">
                <a:srgbClr val="f7fafd"/>
              </a:gs>
              <a:gs pos="100000">
                <a:srgbClr val="cee1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27080" y="236520"/>
            <a:ext cx="15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3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바닥글 개체 틀 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주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3R-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슬라이드 번호 개체 틀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CE9F-24FF-4033-88AE-640B61764AD2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406160" y="29376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 INSTALL &amp; SET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982080" y="66600"/>
          <a:ext cx="1905120" cy="546120"/>
        </p:xfrm>
        <a:graphic>
          <a:graphicData uri="http://schemas.openxmlformats.org/drawingml/2006/table">
            <a:tbl>
              <a:tblPr/>
              <a:tblGrid>
                <a:gridCol w="635040"/>
                <a:gridCol w="635040"/>
                <a:gridCol w="635040"/>
              </a:tblGrid>
              <a:tr h="171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작  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검  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승  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54" name="그림 2" descr=""/>
          <p:cNvPicPr/>
          <p:nvPr/>
        </p:nvPicPr>
        <p:blipFill>
          <a:blip r:embed="rId1"/>
          <a:stretch/>
        </p:blipFill>
        <p:spPr>
          <a:xfrm>
            <a:off x="1400040" y="1593720"/>
            <a:ext cx="819360" cy="771480"/>
          </a:xfrm>
          <a:prstGeom prst="rect">
            <a:avLst/>
          </a:prstGeom>
          <a:ln w="0">
            <a:noFill/>
          </a:ln>
        </p:spPr>
      </p:pic>
      <p:sp>
        <p:nvSpPr>
          <p:cNvPr id="55" name="TextBox 19"/>
          <p:cNvSpPr/>
          <p:nvPr/>
        </p:nvSpPr>
        <p:spPr>
          <a:xfrm>
            <a:off x="958680" y="1316160"/>
            <a:ext cx="45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rom FTP, Download a recovery program and Install the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9"/>
          <p:cNvSpPr/>
          <p:nvPr/>
        </p:nvSpPr>
        <p:spPr>
          <a:xfrm>
            <a:off x="958680" y="2719440"/>
            <a:ext cx="426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nsert a license key (Please check your ema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그림 7" descr=""/>
          <p:cNvPicPr/>
          <p:nvPr/>
        </p:nvPicPr>
        <p:blipFill>
          <a:blip r:embed="rId2"/>
          <a:stretch/>
        </p:blipFill>
        <p:spPr>
          <a:xfrm>
            <a:off x="1400040" y="2997360"/>
            <a:ext cx="43434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평행 사변형 3"/>
          <p:cNvSpPr/>
          <p:nvPr/>
        </p:nvSpPr>
        <p:spPr>
          <a:xfrm>
            <a:off x="1425600" y="612720"/>
            <a:ext cx="10588680" cy="127080"/>
          </a:xfrm>
          <a:prstGeom prst="parallelogram">
            <a:avLst>
              <a:gd name="adj" fmla="val -11540"/>
            </a:avLst>
          </a:prstGeom>
          <a:gradFill rotWithShape="0">
            <a:gsLst>
              <a:gs pos="0">
                <a:srgbClr val="f7fafd"/>
              </a:gs>
              <a:gs pos="100000">
                <a:srgbClr val="cee1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27080" y="236520"/>
            <a:ext cx="15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3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바닥글 개체 틀 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주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3R-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슬라이드 번호 개체 틀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5A8E-6151-43E4-B49A-4847537ABA73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1421640" y="293760"/>
            <a:ext cx="44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HARD DISK Drive(HDD) TO RECOV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982080" y="66600"/>
          <a:ext cx="1905120" cy="546120"/>
        </p:xfrm>
        <a:graphic>
          <a:graphicData uri="http://schemas.openxmlformats.org/drawingml/2006/table">
            <a:tbl>
              <a:tblPr/>
              <a:tblGrid>
                <a:gridCol w="635040"/>
                <a:gridCol w="635040"/>
                <a:gridCol w="635040"/>
              </a:tblGrid>
              <a:tr h="171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작  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검  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승  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64" name="그림 1" descr=""/>
          <p:cNvPicPr/>
          <p:nvPr/>
        </p:nvPicPr>
        <p:blipFill>
          <a:blip r:embed="rId1"/>
          <a:stretch/>
        </p:blipFill>
        <p:spPr>
          <a:xfrm>
            <a:off x="2413080" y="1090440"/>
            <a:ext cx="7365960" cy="49150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9"/>
          <p:cNvSpPr/>
          <p:nvPr/>
        </p:nvSpPr>
        <p:spPr>
          <a:xfrm>
            <a:off x="441360" y="1720800"/>
            <a:ext cx="25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physical HD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Choose HDD to rec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직사각형 2"/>
          <p:cNvSpPr/>
          <p:nvPr/>
        </p:nvSpPr>
        <p:spPr>
          <a:xfrm>
            <a:off x="436680" y="1711440"/>
            <a:ext cx="4456080" cy="949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평행 사변형 3"/>
          <p:cNvSpPr/>
          <p:nvPr/>
        </p:nvSpPr>
        <p:spPr>
          <a:xfrm>
            <a:off x="1425600" y="612720"/>
            <a:ext cx="10588680" cy="127080"/>
          </a:xfrm>
          <a:prstGeom prst="parallelogram">
            <a:avLst>
              <a:gd name="adj" fmla="val -11540"/>
            </a:avLst>
          </a:prstGeom>
          <a:gradFill rotWithShape="0">
            <a:gsLst>
              <a:gs pos="0">
                <a:srgbClr val="f7fafd"/>
              </a:gs>
              <a:gs pos="100000">
                <a:srgbClr val="cee1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127080" y="236520"/>
            <a:ext cx="15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3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바닥글 개체 틀 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주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3R-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슬라이드 번호 개체 틀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5AC1-B388-4B40-84E4-E1BE754C7359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1408320" y="29376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THE PARTITION IS ERAS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982080" y="66600"/>
          <a:ext cx="1905120" cy="546120"/>
        </p:xfrm>
        <a:graphic>
          <a:graphicData uri="http://schemas.openxmlformats.org/drawingml/2006/table">
            <a:tbl>
              <a:tblPr/>
              <a:tblGrid>
                <a:gridCol w="635040"/>
                <a:gridCol w="635040"/>
                <a:gridCol w="635040"/>
              </a:tblGrid>
              <a:tr h="171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작  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검  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승  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73" name="그림 2" descr=""/>
          <p:cNvPicPr/>
          <p:nvPr/>
        </p:nvPicPr>
        <p:blipFill>
          <a:blip r:embed="rId1"/>
          <a:stretch/>
        </p:blipFill>
        <p:spPr>
          <a:xfrm>
            <a:off x="1425600" y="1332000"/>
            <a:ext cx="7043760" cy="2700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19"/>
          <p:cNvSpPr/>
          <p:nvPr/>
        </p:nvSpPr>
        <p:spPr>
          <a:xfrm>
            <a:off x="932040" y="1058760"/>
            <a:ext cx="736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cover partition, right-click on the list and Select ‘Find lost partition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직사각형 7"/>
          <p:cNvSpPr/>
          <p:nvPr/>
        </p:nvSpPr>
        <p:spPr>
          <a:xfrm>
            <a:off x="3449520" y="2689200"/>
            <a:ext cx="1177920" cy="22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9"/>
          <p:cNvSpPr/>
          <p:nvPr/>
        </p:nvSpPr>
        <p:spPr>
          <a:xfrm>
            <a:off x="960480" y="3414600"/>
            <a:ext cx="549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Click ‘Find now menu’ and check LINUX JFS &amp; SGI XFS then click the ‘ok’ but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그림 8" descr=""/>
          <p:cNvPicPr/>
          <p:nvPr/>
        </p:nvPicPr>
        <p:blipFill>
          <a:blip r:embed="rId2"/>
          <a:stretch/>
        </p:blipFill>
        <p:spPr>
          <a:xfrm>
            <a:off x="1400040" y="3691080"/>
            <a:ext cx="2946600" cy="2454120"/>
          </a:xfrm>
          <a:prstGeom prst="rect">
            <a:avLst/>
          </a:prstGeom>
          <a:ln w="0">
            <a:noFill/>
          </a:ln>
        </p:spPr>
      </p:pic>
      <p:pic>
        <p:nvPicPr>
          <p:cNvPr id="78" name="그림 9" descr=""/>
          <p:cNvPicPr/>
          <p:nvPr/>
        </p:nvPicPr>
        <p:blipFill>
          <a:blip r:embed="rId3"/>
          <a:stretch/>
        </p:blipFill>
        <p:spPr>
          <a:xfrm>
            <a:off x="5014800" y="3691080"/>
            <a:ext cx="1970280" cy="24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평행 사변형 3"/>
          <p:cNvSpPr/>
          <p:nvPr/>
        </p:nvSpPr>
        <p:spPr>
          <a:xfrm>
            <a:off x="1425600" y="612720"/>
            <a:ext cx="10588680" cy="127080"/>
          </a:xfrm>
          <a:prstGeom prst="parallelogram">
            <a:avLst>
              <a:gd name="adj" fmla="val -11540"/>
            </a:avLst>
          </a:prstGeom>
          <a:gradFill rotWithShape="0">
            <a:gsLst>
              <a:gs pos="0">
                <a:srgbClr val="f7fafd"/>
              </a:gs>
              <a:gs pos="100000">
                <a:srgbClr val="cee1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127080" y="236520"/>
            <a:ext cx="15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3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바닥글 개체 틀 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주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3R-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슬라이드 번호 개체 틀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5672-C7FF-4EFD-9FAD-A16099F76C98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982080" y="66600"/>
          <a:ext cx="1905120" cy="546120"/>
        </p:xfrm>
        <a:graphic>
          <a:graphicData uri="http://schemas.openxmlformats.org/drawingml/2006/table">
            <a:tbl>
              <a:tblPr/>
              <a:tblGrid>
                <a:gridCol w="635040"/>
                <a:gridCol w="635040"/>
                <a:gridCol w="635040"/>
              </a:tblGrid>
              <a:tr h="171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작  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검  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승  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84" name="그림 1" descr=""/>
          <p:cNvPicPr/>
          <p:nvPr/>
        </p:nvPicPr>
        <p:blipFill>
          <a:blip r:embed="rId1"/>
          <a:stretch/>
        </p:blipFill>
        <p:spPr>
          <a:xfrm>
            <a:off x="1400040" y="1521000"/>
            <a:ext cx="6648480" cy="227628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1406520" y="29376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LORE FI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932040" y="1058760"/>
            <a:ext cx="736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file, right-click on the partition se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‘Explore file system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그림 14" descr=""/>
          <p:cNvPicPr/>
          <p:nvPr/>
        </p:nvPicPr>
        <p:blipFill>
          <a:blip r:embed="rId2"/>
          <a:stretch/>
        </p:blipFill>
        <p:spPr>
          <a:xfrm>
            <a:off x="1392120" y="4211640"/>
            <a:ext cx="6656400" cy="21416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9"/>
          <p:cNvSpPr/>
          <p:nvPr/>
        </p:nvSpPr>
        <p:spPr>
          <a:xfrm>
            <a:off x="932040" y="3865680"/>
            <a:ext cx="736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Select the files you want to recover and right-click on the file then click  ‘copy to…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59:25Z</dcterms:created>
  <dc:creator>jisung jung</dc:creator>
  <dc:description/>
  <dc:language>en-US</dc:language>
  <cp:lastModifiedBy>Registered User</cp:lastModifiedBy>
  <dcterms:modified xsi:type="dcterms:W3CDTF">2013-10-13T04:30:39Z</dcterms:modified>
  <cp:revision>60</cp:revision>
  <dc:subject/>
  <dc:title>PowerPoint 프레젠테이션</dc:title>
</cp:coreProperties>
</file>