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CFB-2FA6-402F-8504-FAD56C4D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536-F3CE-477A-818E-D73F4093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F988-9248-4BD2-91EE-B7A4DE7F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CB8-A1B7-4DCE-876C-2FD4C5A2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719-5F38-4EB5-8698-AAD56A98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E80-F8F4-478B-9AC4-FD710E7D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939-FFAF-4B68-92C6-0135219B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757-B923-4780-89E9-487499F9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B4E-15AD-4327-BAA0-8A2D2CF1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ACC-E825-4D9F-A7C7-06AD0AE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DEC-B481-4DD7-B4A6-9D5723C6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A20-CB72-4115-AB00-257F518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2009-D25A-4621-BA1B-EA0238C598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6034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resti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NAND Flash DOWNLO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lash root file 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a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192.168.10.230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PR#3r#20110314.jffs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그룹 16"/>
          <p:cNvGrpSpPr/>
          <p:nvPr/>
        </p:nvGrpSpPr>
        <p:grpSpPr>
          <a:xfrm>
            <a:off x="919080" y="2422440"/>
            <a:ext cx="5081760" cy="6397560"/>
            <a:chOff x="919080" y="2422440"/>
            <a:chExt cx="5081760" cy="6397560"/>
          </a:xfrm>
        </p:grpSpPr>
        <p:pic>
          <p:nvPicPr>
            <p:cNvPr id="98" name="Picture 8" descr=""/>
            <p:cNvPicPr/>
            <p:nvPr/>
          </p:nvPicPr>
          <p:blipFill>
            <a:blip r:embed="rId1"/>
            <a:stretch/>
          </p:blipFill>
          <p:spPr>
            <a:xfrm>
              <a:off x="919080" y="2422440"/>
              <a:ext cx="5081760" cy="42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"/>
            <p:cNvPicPr/>
            <p:nvPr/>
          </p:nvPicPr>
          <p:blipFill>
            <a:blip r:embed="rId2"/>
            <a:stretch/>
          </p:blipFill>
          <p:spPr>
            <a:xfrm>
              <a:off x="928080" y="6869160"/>
              <a:ext cx="507276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직선 연결선 9"/>
            <p:cNvSpPr/>
            <p:nvPr/>
          </p:nvSpPr>
          <p:spPr>
            <a:xfrm>
              <a:off x="1142640" y="4284720"/>
              <a:ext cx="7142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직선 연결선 10"/>
            <p:cNvSpPr/>
            <p:nvPr/>
          </p:nvSpPr>
          <p:spPr>
            <a:xfrm>
              <a:off x="1071000" y="5012640"/>
              <a:ext cx="357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직선 연결선 11"/>
            <p:cNvSpPr/>
            <p:nvPr/>
          </p:nvSpPr>
          <p:spPr>
            <a:xfrm>
              <a:off x="2500200" y="5099400"/>
              <a:ext cx="928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직선 연결선 12"/>
            <p:cNvSpPr/>
            <p:nvPr/>
          </p:nvSpPr>
          <p:spPr>
            <a:xfrm>
              <a:off x="3929040" y="5213520"/>
              <a:ext cx="1285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E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Reboot DV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92280" y="1187280"/>
            <a:ext cx="563724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epare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　ＩＴＥＭ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 Run Tftpd32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Tftpd32-3.28-setup.exe install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Download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VR B/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Download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rial B/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. LAN C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직사각형 2"/>
          <p:cNvSpPr/>
          <p:nvPr/>
        </p:nvSpPr>
        <p:spPr>
          <a:xfrm>
            <a:off x="928800" y="5143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After Download, Please update New Final Firmwar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692280" y="1187280"/>
            <a:ext cx="56372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 need to down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ke a PC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:\tftpserver. Folder and copy 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No Space in Between. Any name possi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Ex) c:\tftpsever -&gt; 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cc0000"/>
                </a:solidFill>
                <a:latin typeface="굴림"/>
              </a:rPr>
              <a:t>c:\tftp sever -&gt; 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kernel_pr_09 -&gt; </a:t>
            </a:r>
            <a:r>
              <a:rPr b="0" lang="en-US" sz="1400" spc="-1" strike="noStrike">
                <a:solidFill>
                  <a:srgbClr val="0000ff"/>
                </a:solidFill>
                <a:latin typeface="굴림"/>
              </a:rPr>
              <a:t>4/8/16 Kerrnel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R#3r#20110314.jffs2 -&gt; </a:t>
            </a:r>
            <a:r>
              <a:rPr b="0" lang="en-US" sz="1400" spc="-1" strike="noStrike">
                <a:solidFill>
                  <a:srgbClr val="0000ff"/>
                </a:solidFill>
                <a:latin typeface="굴림"/>
              </a:rPr>
              <a:t>4/8/16CH RootFS image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28800" y="4214880"/>
            <a:ext cx="52959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그룹 19"/>
          <p:cNvGrpSpPr/>
          <p:nvPr/>
        </p:nvGrpSpPr>
        <p:grpSpPr>
          <a:xfrm>
            <a:off x="714240" y="2000160"/>
            <a:ext cx="5378400" cy="6691680"/>
            <a:chOff x="714240" y="2000160"/>
            <a:chExt cx="5378400" cy="6691680"/>
          </a:xfrm>
        </p:grpSpPr>
        <p:pic>
          <p:nvPicPr>
            <p:cNvPr id="47" name="Picture 19" descr=""/>
            <p:cNvPicPr/>
            <p:nvPr/>
          </p:nvPicPr>
          <p:blipFill>
            <a:blip r:embed="rId1"/>
            <a:stretch/>
          </p:blipFill>
          <p:spPr>
            <a:xfrm>
              <a:off x="3357360" y="2000160"/>
              <a:ext cx="2643480" cy="220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"/>
            <p:cNvGrpSpPr/>
            <p:nvPr/>
          </p:nvGrpSpPr>
          <p:grpSpPr>
            <a:xfrm>
              <a:off x="714240" y="2334960"/>
              <a:ext cx="5378400" cy="6356880"/>
              <a:chOff x="714240" y="2334960"/>
              <a:chExt cx="5378400" cy="6356880"/>
            </a:xfrm>
          </p:grpSpPr>
          <p:pic>
            <p:nvPicPr>
              <p:cNvPr id="49" name="Pictu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7480" y="4486680"/>
                <a:ext cx="2735280" cy="40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5"/>
              <p:cNvSpPr/>
              <p:nvPr/>
            </p:nvSpPr>
            <p:spPr>
              <a:xfrm flipV="1">
                <a:off x="4745160" y="4149000"/>
                <a:ext cx="0" cy="405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Oval 6"/>
              <p:cNvSpPr/>
              <p:nvPr/>
            </p:nvSpPr>
            <p:spPr>
              <a:xfrm>
                <a:off x="4340520" y="394740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3260880" y="5093280"/>
                <a:ext cx="2091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Oval 8"/>
              <p:cNvSpPr/>
              <p:nvPr/>
            </p:nvSpPr>
            <p:spPr>
              <a:xfrm>
                <a:off x="5283720" y="482436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Text Box 9"/>
              <p:cNvSpPr/>
              <p:nvPr/>
            </p:nvSpPr>
            <p:spPr>
              <a:xfrm>
                <a:off x="763200" y="4890960"/>
                <a:ext cx="249732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1. Assign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C:\tftpserver 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Oval 11"/>
              <p:cNvSpPr/>
              <p:nvPr/>
            </p:nvSpPr>
            <p:spPr>
              <a:xfrm>
                <a:off x="3260880" y="698112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>
                <a:off x="2652120" y="7184520"/>
                <a:ext cx="810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Text Box 13"/>
              <p:cNvSpPr/>
              <p:nvPr/>
            </p:nvSpPr>
            <p:spPr>
              <a:xfrm>
                <a:off x="1035360" y="7049160"/>
                <a:ext cx="161640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2. Diaable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Line 14"/>
              <p:cNvSpPr/>
              <p:nvPr/>
            </p:nvSpPr>
            <p:spPr>
              <a:xfrm>
                <a:off x="3345480" y="2495160"/>
                <a:ext cx="742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Text Box 15"/>
              <p:cNvSpPr/>
              <p:nvPr/>
            </p:nvSpPr>
            <p:spPr>
              <a:xfrm>
                <a:off x="714240" y="2334960"/>
                <a:ext cx="2631240" cy="3070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PC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IP Address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Oval 16"/>
              <p:cNvSpPr/>
              <p:nvPr/>
            </p:nvSpPr>
            <p:spPr>
              <a:xfrm>
                <a:off x="3260880" y="8126640"/>
                <a:ext cx="808920" cy="3373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2652120" y="8330400"/>
                <a:ext cx="810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Text Box 18"/>
              <p:cNvSpPr/>
              <p:nvPr/>
            </p:nvSpPr>
            <p:spPr>
              <a:xfrm>
                <a:off x="1035360" y="8171640"/>
                <a:ext cx="1616400" cy="520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3. 1,2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굴림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굴림"/>
                  </a:rPr>
                  <a:t>Process, and OK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3" name="Text Box 19"/>
          <p:cNvSpPr/>
          <p:nvPr/>
        </p:nvSpPr>
        <p:spPr>
          <a:xfrm>
            <a:off x="692280" y="1187280"/>
            <a:ext cx="5637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UN Tftpd32 Server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 The program must be in running when download firmware to DVR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2"/>
          <p:cNvSpPr/>
          <p:nvPr/>
        </p:nvSpPr>
        <p:spPr>
          <a:xfrm>
            <a:off x="692280" y="1187280"/>
            <a:ext cx="563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VR Main B/D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&amp; Serial  Connect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"/>
              </a:rPr>
              <a:t>*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Warnning</a:t>
            </a:r>
            <a:r>
              <a:rPr b="1" lang="zh-CN" sz="1800" spc="-1" strike="noStrike">
                <a:solidFill>
                  <a:srgbClr val="cc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Cable</a:t>
            </a:r>
            <a:r>
              <a:rPr b="1" lang="zh-CN" sz="1800" spc="-1" strike="noStrike">
                <a:solidFill>
                  <a:srgbClr val="cc0000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굴림"/>
              </a:rPr>
              <a:t>must be in right direction !!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1557360" y="4716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x) 16cH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/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19" descr="크기변환_IMG_0524.jpg"/>
          <p:cNvPicPr/>
          <p:nvPr/>
        </p:nvPicPr>
        <p:blipFill>
          <a:blip r:embed="rId1"/>
          <a:stretch/>
        </p:blipFill>
        <p:spPr>
          <a:xfrm>
            <a:off x="571680" y="2143080"/>
            <a:ext cx="4857480" cy="2500200"/>
          </a:xfrm>
          <a:prstGeom prst="rect">
            <a:avLst/>
          </a:prstGeom>
          <a:ln w="0">
            <a:noFill/>
          </a:ln>
        </p:spPr>
      </p:pic>
      <p:pic>
        <p:nvPicPr>
          <p:cNvPr id="67" name="그림 21" descr="크기변환_IMG_0527.jpg"/>
          <p:cNvPicPr/>
          <p:nvPr/>
        </p:nvPicPr>
        <p:blipFill>
          <a:blip r:embed="rId2"/>
          <a:stretch/>
        </p:blipFill>
        <p:spPr>
          <a:xfrm>
            <a:off x="357120" y="5429160"/>
            <a:ext cx="3071880" cy="2500560"/>
          </a:xfrm>
          <a:prstGeom prst="rect">
            <a:avLst/>
          </a:prstGeom>
          <a:ln w="0">
            <a:noFill/>
          </a:ln>
        </p:spPr>
      </p:pic>
      <p:grpSp>
        <p:nvGrpSpPr>
          <p:cNvPr id="68" name="그룹 8"/>
          <p:cNvGrpSpPr/>
          <p:nvPr/>
        </p:nvGrpSpPr>
        <p:grpSpPr>
          <a:xfrm>
            <a:off x="3571920" y="5429160"/>
            <a:ext cx="3048120" cy="2500560"/>
            <a:chOff x="3571920" y="5429160"/>
            <a:chExt cx="3048120" cy="2500560"/>
          </a:xfrm>
        </p:grpSpPr>
        <p:pic>
          <p:nvPicPr>
            <p:cNvPr id="69" name="그림 20" descr="크기변환_IMG_0528.jpg"/>
            <p:cNvPicPr/>
            <p:nvPr/>
          </p:nvPicPr>
          <p:blipFill>
            <a:blip r:embed="rId3"/>
            <a:stretch/>
          </p:blipFill>
          <p:spPr>
            <a:xfrm>
              <a:off x="3571920" y="5429160"/>
              <a:ext cx="304812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7"/>
            <p:cNvSpPr/>
            <p:nvPr/>
          </p:nvSpPr>
          <p:spPr>
            <a:xfrm>
              <a:off x="4782960" y="7034400"/>
              <a:ext cx="857520" cy="64260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굴림"/>
                </a:rPr>
                <a:t>Pin 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굴림"/>
                </a:rPr>
                <a:t>(GND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 flipV="1">
              <a:off x="5213520" y="6676560"/>
              <a:ext cx="1440" cy="360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642960" y="642960"/>
            <a:ext cx="56372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UN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iper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tar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All Program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Accessori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Communicatio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Hiper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Bitrat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1152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ata bit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arity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top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Flow Control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3" name="그룹 6"/>
          <p:cNvGrpSpPr/>
          <p:nvPr/>
        </p:nvGrpSpPr>
        <p:grpSpPr>
          <a:xfrm>
            <a:off x="219240" y="3143160"/>
            <a:ext cx="6281640" cy="5257800"/>
            <a:chOff x="219240" y="3143160"/>
            <a:chExt cx="6281640" cy="5257800"/>
          </a:xfrm>
        </p:grpSpPr>
        <p:pic>
          <p:nvPicPr>
            <p:cNvPr id="74" name="Picture 6" descr=""/>
            <p:cNvPicPr/>
            <p:nvPr/>
          </p:nvPicPr>
          <p:blipFill>
            <a:blip r:embed="rId1"/>
            <a:stretch/>
          </p:blipFill>
          <p:spPr>
            <a:xfrm>
              <a:off x="219240" y="3143160"/>
              <a:ext cx="62816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12"/>
            <p:cNvSpPr/>
            <p:nvPr/>
          </p:nvSpPr>
          <p:spPr>
            <a:xfrm>
              <a:off x="4567320" y="7640640"/>
              <a:ext cx="576000" cy="360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Oval 13"/>
            <p:cNvSpPr/>
            <p:nvPr/>
          </p:nvSpPr>
          <p:spPr>
            <a:xfrm>
              <a:off x="2851200" y="6140520"/>
              <a:ext cx="649080" cy="4316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42960" y="642960"/>
            <a:ext cx="56372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t IP 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6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IP address “192.168.101.254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Gateway “192.168.101.1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" name="그룹 19"/>
          <p:cNvGrpSpPr/>
          <p:nvPr/>
        </p:nvGrpSpPr>
        <p:grpSpPr>
          <a:xfrm>
            <a:off x="488880" y="2743200"/>
            <a:ext cx="5797800" cy="4971960"/>
            <a:chOff x="488880" y="2743200"/>
            <a:chExt cx="5797800" cy="4971960"/>
          </a:xfrm>
        </p:grpSpPr>
        <p:pic>
          <p:nvPicPr>
            <p:cNvPr id="79" name="Picture 6" descr=""/>
            <p:cNvPicPr/>
            <p:nvPr/>
          </p:nvPicPr>
          <p:blipFill>
            <a:blip r:embed="rId1"/>
            <a:stretch/>
          </p:blipFill>
          <p:spPr>
            <a:xfrm>
              <a:off x="488880" y="2743200"/>
              <a:ext cx="5797800" cy="49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직선 연결선 8"/>
            <p:cNvSpPr/>
            <p:nvPr/>
          </p:nvSpPr>
          <p:spPr>
            <a:xfrm>
              <a:off x="642600" y="5394960"/>
              <a:ext cx="22147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직선 연결선 15"/>
            <p:cNvSpPr/>
            <p:nvPr/>
          </p:nvSpPr>
          <p:spPr>
            <a:xfrm>
              <a:off x="642600" y="5643360"/>
              <a:ext cx="23576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직선 연결선 17"/>
            <p:cNvSpPr/>
            <p:nvPr/>
          </p:nvSpPr>
          <p:spPr>
            <a:xfrm>
              <a:off x="642600" y="5000400"/>
              <a:ext cx="92880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rase RootFS 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5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nand erase nobad 0x30700000 0x03800000”  this takes 1 min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Exit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" name="그룹 15"/>
          <p:cNvGrpSpPr/>
          <p:nvPr/>
        </p:nvGrpSpPr>
        <p:grpSpPr>
          <a:xfrm>
            <a:off x="380880" y="3071880"/>
            <a:ext cx="6048360" cy="5187960"/>
            <a:chOff x="380880" y="3071880"/>
            <a:chExt cx="6048360" cy="518796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>
              <a:off x="380880" y="3071880"/>
              <a:ext cx="6048360" cy="51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직선 연결선 7"/>
            <p:cNvSpPr/>
            <p:nvPr/>
          </p:nvSpPr>
          <p:spPr>
            <a:xfrm>
              <a:off x="571320" y="544320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직선 연결선 8"/>
            <p:cNvSpPr/>
            <p:nvPr/>
          </p:nvSpPr>
          <p:spPr>
            <a:xfrm>
              <a:off x="571320" y="5829480"/>
              <a:ext cx="33573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직선 연결선 14"/>
            <p:cNvSpPr/>
            <p:nvPr/>
          </p:nvSpPr>
          <p:spPr>
            <a:xfrm>
              <a:off x="571320" y="635688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42960" y="642960"/>
            <a:ext cx="5637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lash kern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fter Power on, enter  Ctrl-C to to abort booting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y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2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192.168.101.206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nter “kernel_pr_09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그룹 18"/>
          <p:cNvGrpSpPr/>
          <p:nvPr/>
        </p:nvGrpSpPr>
        <p:grpSpPr>
          <a:xfrm>
            <a:off x="285840" y="2846520"/>
            <a:ext cx="6329160" cy="5297400"/>
            <a:chOff x="285840" y="2846520"/>
            <a:chExt cx="6329160" cy="5297400"/>
          </a:xfrm>
        </p:grpSpPr>
        <p:pic>
          <p:nvPicPr>
            <p:cNvPr id="91" name="Picture 9" descr=""/>
            <p:cNvPicPr/>
            <p:nvPr/>
          </p:nvPicPr>
          <p:blipFill>
            <a:blip r:embed="rId1"/>
            <a:stretch/>
          </p:blipFill>
          <p:spPr>
            <a:xfrm>
              <a:off x="285840" y="2846520"/>
              <a:ext cx="6329160" cy="52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직선 연결선 9"/>
            <p:cNvSpPr/>
            <p:nvPr/>
          </p:nvSpPr>
          <p:spPr>
            <a:xfrm>
              <a:off x="500040" y="3858120"/>
              <a:ext cx="9284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직선 연결선 10"/>
            <p:cNvSpPr/>
            <p:nvPr/>
          </p:nvSpPr>
          <p:spPr>
            <a:xfrm>
              <a:off x="455760" y="4757760"/>
              <a:ext cx="499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직선 연결선 13"/>
            <p:cNvSpPr/>
            <p:nvPr/>
          </p:nvSpPr>
          <p:spPr>
            <a:xfrm>
              <a:off x="2214360" y="4887000"/>
              <a:ext cx="1214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직선 연결선 17"/>
            <p:cNvSpPr/>
            <p:nvPr/>
          </p:nvSpPr>
          <p:spPr>
            <a:xfrm>
              <a:off x="3999960" y="5045040"/>
              <a:ext cx="12142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1:09:48Z</dcterms:created>
  <dc:creator>고덕진</dc:creator>
  <dc:description/>
  <dc:language>en-US</dc:language>
  <cp:lastModifiedBy>ChinkyuJung</cp:lastModifiedBy>
  <dcterms:modified xsi:type="dcterms:W3CDTF">2012-05-15T23:35:19Z</dcterms:modified>
  <cp:revision>96</cp:revision>
  <dc:subject/>
  <dc:title>ST NAND FLASH DOWNLOAD</dc:title>
</cp:coreProperties>
</file>