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3CE-BBD1-4E47-8AA1-9ED89A9B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DA-10F4-45BC-A7FA-4E3F36F2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7FF-F89A-4912-A04D-054CFFD1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4D1-696C-4514-8778-AD3FA846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AAB-4E60-453E-83EE-E571952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BF9-CA97-4D39-A71D-3E2FA5F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EA9-26A0-4099-976E-BE9471A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C05-B3C1-4B57-8287-CA768171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57A-A273-4ADE-AA21-97822E2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B1C-035E-49FC-94F7-7162F53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EE8-80BF-42E2-80BA-7DA99171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EAA-1335-4C85-9A7A-C2F2B6F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A047-5254-4011-BBB9-C1B4882151C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6034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resti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NAND Flash DOWNLO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root file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a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.230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PR#3r#20110314.jffs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16"/>
          <p:cNvGrpSpPr/>
          <p:nvPr/>
        </p:nvGrpSpPr>
        <p:grpSpPr>
          <a:xfrm>
            <a:off x="919080" y="2422440"/>
            <a:ext cx="5081760" cy="6397560"/>
            <a:chOff x="919080" y="2422440"/>
            <a:chExt cx="5081760" cy="6397560"/>
          </a:xfrm>
        </p:grpSpPr>
        <p:pic>
          <p:nvPicPr>
            <p:cNvPr id="98" name="Picture 8" descr=""/>
            <p:cNvPicPr/>
            <p:nvPr/>
          </p:nvPicPr>
          <p:blipFill>
            <a:blip r:embed="rId1"/>
            <a:stretch/>
          </p:blipFill>
          <p:spPr>
            <a:xfrm>
              <a:off x="919080" y="2422440"/>
              <a:ext cx="5081760" cy="42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"/>
            <p:cNvPicPr/>
            <p:nvPr/>
          </p:nvPicPr>
          <p:blipFill>
            <a:blip r:embed="rId2"/>
            <a:stretch/>
          </p:blipFill>
          <p:spPr>
            <a:xfrm>
              <a:off x="928080" y="6869160"/>
              <a:ext cx="507276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직선 연결선 9"/>
            <p:cNvSpPr/>
            <p:nvPr/>
          </p:nvSpPr>
          <p:spPr>
            <a:xfrm>
              <a:off x="1142640" y="4284720"/>
              <a:ext cx="7142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직선 연결선 10"/>
            <p:cNvSpPr/>
            <p:nvPr/>
          </p:nvSpPr>
          <p:spPr>
            <a:xfrm>
              <a:off x="1071000" y="5012640"/>
              <a:ext cx="357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직선 연결선 11"/>
            <p:cNvSpPr/>
            <p:nvPr/>
          </p:nvSpPr>
          <p:spPr>
            <a:xfrm>
              <a:off x="2500200" y="5099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직선 연결선 12"/>
            <p:cNvSpPr/>
            <p:nvPr/>
          </p:nvSpPr>
          <p:spPr>
            <a:xfrm>
              <a:off x="3929040" y="5213520"/>
              <a:ext cx="1285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eboot DV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92280" y="1187280"/>
            <a:ext cx="56372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epare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　ＩＴＥＭ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Run Tftpd32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Tftpd32-3.28-setup.exe install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rial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. LAN C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2"/>
          <p:cNvSpPr/>
          <p:nvPr/>
        </p:nvSpPr>
        <p:spPr>
          <a:xfrm>
            <a:off x="928800" y="5143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After Download, Please update New Final Firmwar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92280" y="1187280"/>
            <a:ext cx="5637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 need to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ke a PC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:\tftpserver. Folder and copy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No Space in Between. Any name possi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Ex) c:\tftpsever -&gt; 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c:\tftp sever -&gt; 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kernel_pr_09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 Kerrnel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#3r#20110314.jffs2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CH RootFS image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28800" y="4214880"/>
            <a:ext cx="52959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그룹 19"/>
          <p:cNvGrpSpPr/>
          <p:nvPr/>
        </p:nvGrpSpPr>
        <p:grpSpPr>
          <a:xfrm>
            <a:off x="714240" y="2000160"/>
            <a:ext cx="5378400" cy="6691680"/>
            <a:chOff x="714240" y="2000160"/>
            <a:chExt cx="5378400" cy="6691680"/>
          </a:xfrm>
        </p:grpSpPr>
        <p:pic>
          <p:nvPicPr>
            <p:cNvPr id="47" name="Picture 19" descr=""/>
            <p:cNvPicPr/>
            <p:nvPr/>
          </p:nvPicPr>
          <p:blipFill>
            <a:blip r:embed="rId1"/>
            <a:stretch/>
          </p:blipFill>
          <p:spPr>
            <a:xfrm>
              <a:off x="3357360" y="2000160"/>
              <a:ext cx="2643480" cy="220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"/>
            <p:cNvGrpSpPr/>
            <p:nvPr/>
          </p:nvGrpSpPr>
          <p:grpSpPr>
            <a:xfrm>
              <a:off x="714240" y="2334960"/>
              <a:ext cx="5378400" cy="6356880"/>
              <a:chOff x="714240" y="2334960"/>
              <a:chExt cx="5378400" cy="6356880"/>
            </a:xfrm>
          </p:grpSpPr>
          <p:pic>
            <p:nvPicPr>
              <p:cNvPr id="49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7480" y="4486680"/>
                <a:ext cx="2735280" cy="40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5"/>
              <p:cNvSpPr/>
              <p:nvPr/>
            </p:nvSpPr>
            <p:spPr>
              <a:xfrm flipV="1">
                <a:off x="4745160" y="4149000"/>
                <a:ext cx="0" cy="405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Oval 6"/>
              <p:cNvSpPr/>
              <p:nvPr/>
            </p:nvSpPr>
            <p:spPr>
              <a:xfrm>
                <a:off x="4340520" y="394740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3260880" y="5093280"/>
                <a:ext cx="2091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Oval 8"/>
              <p:cNvSpPr/>
              <p:nvPr/>
            </p:nvSpPr>
            <p:spPr>
              <a:xfrm>
                <a:off x="5283720" y="482436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Text Box 9"/>
              <p:cNvSpPr/>
              <p:nvPr/>
            </p:nvSpPr>
            <p:spPr>
              <a:xfrm>
                <a:off x="763200" y="4890960"/>
                <a:ext cx="249732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1. Assign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C:\tftpserver 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Oval 11"/>
              <p:cNvSpPr/>
              <p:nvPr/>
            </p:nvSpPr>
            <p:spPr>
              <a:xfrm>
                <a:off x="3260880" y="698112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2652120" y="718452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Text Box 13"/>
              <p:cNvSpPr/>
              <p:nvPr/>
            </p:nvSpPr>
            <p:spPr>
              <a:xfrm>
                <a:off x="1035360" y="7049160"/>
                <a:ext cx="161640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2. Diaabl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3345480" y="2495160"/>
                <a:ext cx="742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Text Box 15"/>
              <p:cNvSpPr/>
              <p:nvPr/>
            </p:nvSpPr>
            <p:spPr>
              <a:xfrm>
                <a:off x="714240" y="2334960"/>
                <a:ext cx="263124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C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IP Addres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Oval 16"/>
              <p:cNvSpPr/>
              <p:nvPr/>
            </p:nvSpPr>
            <p:spPr>
              <a:xfrm>
                <a:off x="3260880" y="812664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2652120" y="833040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Text Box 18"/>
              <p:cNvSpPr/>
              <p:nvPr/>
            </p:nvSpPr>
            <p:spPr>
              <a:xfrm>
                <a:off x="1035360" y="8171640"/>
                <a:ext cx="1616400" cy="520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3. 1,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rocess, and OK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3" name="Text Box 19"/>
          <p:cNvSpPr/>
          <p:nvPr/>
        </p:nvSpPr>
        <p:spPr>
          <a:xfrm>
            <a:off x="692280" y="1187280"/>
            <a:ext cx="5637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 Tftpd32 Serve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 The program must be in running when download firmware to DVR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2"/>
          <p:cNvSpPr/>
          <p:nvPr/>
        </p:nvSpPr>
        <p:spPr>
          <a:xfrm>
            <a:off x="692280" y="1187280"/>
            <a:ext cx="56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Main B/D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&amp; Serial  Connec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"/>
              </a:rPr>
              <a:t>*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Warnning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Cable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must be in right direction !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557360" y="4716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) 16cH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/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19" descr="크기변환_IMG_0524.jpg"/>
          <p:cNvPicPr/>
          <p:nvPr/>
        </p:nvPicPr>
        <p:blipFill>
          <a:blip r:embed="rId1"/>
          <a:stretch/>
        </p:blipFill>
        <p:spPr>
          <a:xfrm>
            <a:off x="571680" y="2143080"/>
            <a:ext cx="485748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그림 21" descr="크기변환_IMG_0527.jpg"/>
          <p:cNvPicPr/>
          <p:nvPr/>
        </p:nvPicPr>
        <p:blipFill>
          <a:blip r:embed="rId2"/>
          <a:stretch/>
        </p:blipFill>
        <p:spPr>
          <a:xfrm>
            <a:off x="357120" y="5429160"/>
            <a:ext cx="3071880" cy="2500560"/>
          </a:xfrm>
          <a:prstGeom prst="rect">
            <a:avLst/>
          </a:prstGeom>
          <a:ln w="0">
            <a:noFill/>
          </a:ln>
        </p:spPr>
      </p:pic>
      <p:grpSp>
        <p:nvGrpSpPr>
          <p:cNvPr id="68" name="그룹 8"/>
          <p:cNvGrpSpPr/>
          <p:nvPr/>
        </p:nvGrpSpPr>
        <p:grpSpPr>
          <a:xfrm>
            <a:off x="3571920" y="5429160"/>
            <a:ext cx="3048120" cy="2500560"/>
            <a:chOff x="3571920" y="5429160"/>
            <a:chExt cx="3048120" cy="2500560"/>
          </a:xfrm>
        </p:grpSpPr>
        <p:pic>
          <p:nvPicPr>
            <p:cNvPr id="69" name="그림 20" descr="크기변환_IMG_0528.jpg"/>
            <p:cNvPicPr/>
            <p:nvPr/>
          </p:nvPicPr>
          <p:blipFill>
            <a:blip r:embed="rId3"/>
            <a:stretch/>
          </p:blipFill>
          <p:spPr>
            <a:xfrm>
              <a:off x="3571920" y="542916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7"/>
            <p:cNvSpPr/>
            <p:nvPr/>
          </p:nvSpPr>
          <p:spPr>
            <a:xfrm>
              <a:off x="4782960" y="7034400"/>
              <a:ext cx="857520" cy="6426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Pin 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(GND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V="1">
              <a:off x="5213520" y="6676560"/>
              <a:ext cx="1440" cy="36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42960" y="642960"/>
            <a:ext cx="56372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ll Progra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ccessori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Communicat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itrat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15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ata bit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it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top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low Control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" name="그룹 6"/>
          <p:cNvGrpSpPr/>
          <p:nvPr/>
        </p:nvGrpSpPr>
        <p:grpSpPr>
          <a:xfrm>
            <a:off x="219240" y="3143160"/>
            <a:ext cx="6281640" cy="5257800"/>
            <a:chOff x="219240" y="3143160"/>
            <a:chExt cx="6281640" cy="5257800"/>
          </a:xfrm>
        </p:grpSpPr>
        <p:pic>
          <p:nvPicPr>
            <p:cNvPr id="74" name="Picture 6" descr=""/>
            <p:cNvPicPr/>
            <p:nvPr/>
          </p:nvPicPr>
          <p:blipFill>
            <a:blip r:embed="rId1"/>
            <a:stretch/>
          </p:blipFill>
          <p:spPr>
            <a:xfrm>
              <a:off x="219240" y="3143160"/>
              <a:ext cx="6281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12"/>
            <p:cNvSpPr/>
            <p:nvPr/>
          </p:nvSpPr>
          <p:spPr>
            <a:xfrm>
              <a:off x="4567320" y="7640640"/>
              <a:ext cx="576000" cy="360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Oval 13"/>
            <p:cNvSpPr/>
            <p:nvPr/>
          </p:nvSpPr>
          <p:spPr>
            <a:xfrm>
              <a:off x="2851200" y="6140520"/>
              <a:ext cx="649080" cy="431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42960" y="642960"/>
            <a:ext cx="56372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IP 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IP address “192.168.101.254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Gateway “192.168.101.1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19"/>
          <p:cNvGrpSpPr/>
          <p:nvPr/>
        </p:nvGrpSpPr>
        <p:grpSpPr>
          <a:xfrm>
            <a:off x="488880" y="2743200"/>
            <a:ext cx="5797800" cy="4971960"/>
            <a:chOff x="488880" y="2743200"/>
            <a:chExt cx="5797800" cy="4971960"/>
          </a:xfrm>
        </p:grpSpPr>
        <p:pic>
          <p:nvPicPr>
            <p:cNvPr id="79" name="Picture 6" descr=""/>
            <p:cNvPicPr/>
            <p:nvPr/>
          </p:nvPicPr>
          <p:blipFill>
            <a:blip r:embed="rId1"/>
            <a:stretch/>
          </p:blipFill>
          <p:spPr>
            <a:xfrm>
              <a:off x="488880" y="2743200"/>
              <a:ext cx="57978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선 연결선 8"/>
            <p:cNvSpPr/>
            <p:nvPr/>
          </p:nvSpPr>
          <p:spPr>
            <a:xfrm>
              <a:off x="642600" y="5394960"/>
              <a:ext cx="22147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직선 연결선 15"/>
            <p:cNvSpPr/>
            <p:nvPr/>
          </p:nvSpPr>
          <p:spPr>
            <a:xfrm>
              <a:off x="642600" y="5643360"/>
              <a:ext cx="2357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직선 연결선 17"/>
            <p:cNvSpPr/>
            <p:nvPr/>
          </p:nvSpPr>
          <p:spPr>
            <a:xfrm>
              <a:off x="642600" y="5000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rase RootFS 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5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nand erase nobad 0x30700000 0x03800000”  this takes 1 min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Exit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그룹 15"/>
          <p:cNvGrpSpPr/>
          <p:nvPr/>
        </p:nvGrpSpPr>
        <p:grpSpPr>
          <a:xfrm>
            <a:off x="380880" y="3071880"/>
            <a:ext cx="6048360" cy="5187960"/>
            <a:chOff x="380880" y="3071880"/>
            <a:chExt cx="6048360" cy="518796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>
              <a:off x="380880" y="3071880"/>
              <a:ext cx="6048360" cy="51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직선 연결선 7"/>
            <p:cNvSpPr/>
            <p:nvPr/>
          </p:nvSpPr>
          <p:spPr>
            <a:xfrm>
              <a:off x="571320" y="544320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직선 연결선 8"/>
            <p:cNvSpPr/>
            <p:nvPr/>
          </p:nvSpPr>
          <p:spPr>
            <a:xfrm>
              <a:off x="571320" y="5829480"/>
              <a:ext cx="3357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직선 연결선 14"/>
            <p:cNvSpPr/>
            <p:nvPr/>
          </p:nvSpPr>
          <p:spPr>
            <a:xfrm>
              <a:off x="571320" y="635688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kern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y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1.20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kernel_pr_09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그룹 18"/>
          <p:cNvGrpSpPr/>
          <p:nvPr/>
        </p:nvGrpSpPr>
        <p:grpSpPr>
          <a:xfrm>
            <a:off x="285840" y="2846520"/>
            <a:ext cx="6329160" cy="5297400"/>
            <a:chOff x="285840" y="2846520"/>
            <a:chExt cx="6329160" cy="5297400"/>
          </a:xfrm>
        </p:grpSpPr>
        <p:pic>
          <p:nvPicPr>
            <p:cNvPr id="91" name="Picture 9" descr=""/>
            <p:cNvPicPr/>
            <p:nvPr/>
          </p:nvPicPr>
          <p:blipFill>
            <a:blip r:embed="rId1"/>
            <a:stretch/>
          </p:blipFill>
          <p:spPr>
            <a:xfrm>
              <a:off x="285840" y="2846520"/>
              <a:ext cx="632916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직선 연결선 9"/>
            <p:cNvSpPr/>
            <p:nvPr/>
          </p:nvSpPr>
          <p:spPr>
            <a:xfrm>
              <a:off x="500040" y="385812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직선 연결선 10"/>
            <p:cNvSpPr/>
            <p:nvPr/>
          </p:nvSpPr>
          <p:spPr>
            <a:xfrm>
              <a:off x="455760" y="4757760"/>
              <a:ext cx="499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직선 연결선 13"/>
            <p:cNvSpPr/>
            <p:nvPr/>
          </p:nvSpPr>
          <p:spPr>
            <a:xfrm>
              <a:off x="2214360" y="488700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직선 연결선 17"/>
            <p:cNvSpPr/>
            <p:nvPr/>
          </p:nvSpPr>
          <p:spPr>
            <a:xfrm>
              <a:off x="3999960" y="504504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09:48Z</dcterms:created>
  <dc:creator>고덕진</dc:creator>
  <dc:description/>
  <dc:language>en-US</dc:language>
  <cp:lastModifiedBy>ChinkyuJung</cp:lastModifiedBy>
  <dcterms:modified xsi:type="dcterms:W3CDTF">2012-05-15T23:35:19Z</dcterms:modified>
  <cp:revision>96</cp:revision>
  <dc:subject/>
  <dc:title>ST NAND FLASH DOWNLOAD</dc:title>
</cp:coreProperties>
</file>