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51E-DC83-422A-971E-FE7CAEA0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890-6BC6-4C8F-977B-B2EB4A53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231-B381-4119-959B-FB38E7A5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A0F-650C-40DB-BCAA-CC7B51C4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D9C-69C6-4F37-99EC-C787F63A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44A-FE67-4276-AAB8-5966FAF0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244-44D5-4A23-B23D-11C64C32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8A0-03E6-478E-B61D-4C75BE83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B43-B524-4E2B-B7EC-851F5AD4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B57-3378-4126-AFFD-7550EC3E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BF5-4272-406F-87CF-C978E9D9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525-B1B3-4E21-B482-647D6C47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FDA5-96C5-42E1-B570-5EF2EEB52C6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73360" y="250920"/>
            <a:ext cx="4751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A caution to use authentication ke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90000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n introduction of authentication ke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49360" y="1333440"/>
            <a:ext cx="611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o install authentication key prior to use program since it is usa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only in system which the authentication key is install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33360" y="219564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 caution to use lock dis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49360" y="2629080"/>
            <a:ext cx="60483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You need to store a lock disk since it its essential for collection or reinstallation later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     To use it only for authentication install and collection since the disk lock is a special settled disk. It can’t be reused and you need to buy it when you format disk lock. Do not format the program. (Ask a dealer when disk is defective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33360" y="4716360"/>
            <a:ext cx="612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 caution to install and colle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04640" y="5221440"/>
            <a:ext cx="61200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stall authentication key when install and use T&amp;A program firs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o choose system for installation and install authentication key as using disk lock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     To collect authentication key as using disk lock, and install authentication key in new system when you want to transfer existing T&amp;A progra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3.      To reinstall disk lock when change existing T&amp;A system. Reinstall authentication key after collect authentication key and change the system when T&amp;A program change hardware systems like graphic card, LAN card. (Authentication key will not be collected when you change system without collecting it.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360" y="90000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uthentication key install guid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9360" y="1332000"/>
            <a:ext cx="6308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1. Input disk lock into floppy disk (A: driv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Run “UniKey.exe” after checking disk lock fi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3. Install authentication key by pressing [Install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4. Check installation by pressing [enter] on install check scree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5. Finish installation after checking normal install finish messag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6. “UniKey.bss” file will disappear on disk lock after normal install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73360" y="250920"/>
            <a:ext cx="4751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uthentication Key Install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46080" y="3276720"/>
            <a:ext cx="4570560" cy="2136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2280" y="5484960"/>
            <a:ext cx="554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Files included in lock disk before or after installatio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9560" y="6167520"/>
            <a:ext cx="4537080" cy="2220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3560" y="8459640"/>
            <a:ext cx="554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iles included in lock disk after normal installatio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3360" y="104292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uthentication key install screen gui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1484280" y="250920"/>
            <a:ext cx="504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uthentication Key Install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260280" y="3780000"/>
            <a:ext cx="63356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 UniKey.exe running screen before authentication key installatio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620640" y="6084720"/>
            <a:ext cx="5616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Check screen which is appeared while installing authentication key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1339920" y="8172360"/>
            <a:ext cx="453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Normal installation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012680" y="1631880"/>
            <a:ext cx="4864320" cy="2173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023840" y="4211640"/>
            <a:ext cx="4926240" cy="190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700280" y="6800760"/>
            <a:ext cx="3816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33360" y="536400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uthentication key collection proc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549360" y="5796000"/>
            <a:ext cx="6048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1. Input disk lock to floppy disk (A: drive)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Run “UniKey.exe” after checking disk lock fi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3. Collect authentication key by pressing [collect authentication key]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4. Check collection by pressing [enter] on collection check scree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5. Finish Collection after checking normal collection finish messag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6. “UniKey.bss” file will appear on disk lock after normal collecting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57360" y="250920"/>
            <a:ext cx="5327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uthentication key collection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33360" y="104292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When you need to collect authentication ke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549360" y="1474920"/>
            <a:ext cx="6048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here are some cases that you need to collect authentication ke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1. You can run a program normally by reinstalling authentica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key after collecting it when you want to move existing program to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other PC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You need to collect authentication key when you want to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system hardware which is used as T&amp;A program. And you need to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collect and reinstall authentication key before change system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since it was made to be applied to the system which is set dur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stall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33360" y="104292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uthentication key collection gui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341360" y="250920"/>
            <a:ext cx="5516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uthentication key collection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260280" y="4033800"/>
            <a:ext cx="6335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 UniKey.exe running screen before authentication key collectio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765000" y="6156360"/>
            <a:ext cx="528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Check screen which is appeared while installing authentication key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339920" y="8299440"/>
            <a:ext cx="453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Normal collection screen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5000" y="1547640"/>
            <a:ext cx="5329440" cy="2557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47720" y="4643280"/>
            <a:ext cx="536256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25360" y="6837480"/>
            <a:ext cx="482472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7:02:23Z</dcterms:created>
  <dc:creator>uc</dc:creator>
  <dc:description/>
  <dc:language>en-US</dc:language>
  <cp:lastModifiedBy>전재라</cp:lastModifiedBy>
  <dcterms:modified xsi:type="dcterms:W3CDTF">2006-07-27T07:42:21Z</dcterms:modified>
  <cp:revision>54</cp:revision>
  <dc:subject/>
  <dc:title>PowerPoint 프레젠테이션</dc:title>
</cp:coreProperties>
</file>