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6377-06B9-4B4C-BE64-123A666D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CA76-9F5E-4C3B-9709-0A17788E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6D04-AEA6-4A2A-9086-E447C9C3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B9CE-604A-4B82-A08C-11F2A5CAD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B4E3-D7C3-4430-BAAD-B50A41C0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08F7-DE2D-49A2-BA8A-40CCA33A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6730-1126-4405-A08A-E3DB7744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23FA-C038-4147-9299-3C9B5697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674E-ECC9-439D-8F3F-0B822053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B47C-747B-4791-8500-9836EA20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CF67-2130-49F6-9FA5-74174229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58AC-0B66-404E-90C8-4F7271E1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28800" y="88390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8464-CABE-4B39-BB51-6A68DC7E0EE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39680" y="2905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905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60280" y="901800"/>
            <a:ext cx="633744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Fingerprint Time&amp;Attendance System(FpWork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굴림"/>
              </a:rPr>
              <a:t>Installation Guide(Ver2.xx)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04920" y="3276720"/>
            <a:ext cx="627516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39680" y="2905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905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33360" y="1116000"/>
            <a:ext cx="62197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tart Program Install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Input Program Installation CD to CD_ROM driv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Installation screen will appear after Setup.exe is process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Install program as checking step-by-step process.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505320"/>
            <a:ext cx="6000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44640" y="8083440"/>
            <a:ext cx="345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Program installation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33520" y="3352680"/>
          <a:ext cx="5790960" cy="435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352680"/>
                    <a:ext cx="5790960" cy="43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843280" y="152280"/>
            <a:ext cx="38624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Program Install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CB1D-EEDE-49C2-92ED-3D8E1CB879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39680" y="2905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905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773360" y="7796160"/>
            <a:ext cx="345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License agreement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452520" y="1332000"/>
            <a:ext cx="59292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License Agreeme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Check thoroughly since this agreement has the same effect as Program Use agreement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Press [Yes] if you agree with contents. It will finish install if you disagre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3075120"/>
          <a:ext cx="5638680" cy="42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075120"/>
                    <a:ext cx="563868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843280" y="152280"/>
            <a:ext cx="38624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Program Install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9745-34A9-4D4F-8A4D-14106A87C2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39680" y="2905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905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476280" y="1332000"/>
            <a:ext cx="58579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et program installation path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Set install location for T&amp;A progra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Press  [Browse…] and choose the location to install program in other locat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To move next step after installation location is set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692280" y="8153280"/>
            <a:ext cx="5545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Install path setting screen 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09480" y="3276720"/>
          <a:ext cx="5715000" cy="429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276720"/>
                    <a:ext cx="57150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843280" y="152280"/>
            <a:ext cx="38624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Program Install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A84D-1530-496C-A14C-6894C3EB3C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39680" y="2905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905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476280" y="1332000"/>
            <a:ext cx="58579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rogram Installation Proc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Copy files for T&amp;A progra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Please wait until the process is finish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692280" y="7956720"/>
            <a:ext cx="5545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Installation process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09480" y="2941560"/>
          <a:ext cx="5715000" cy="429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941560"/>
                    <a:ext cx="57150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2919240" y="152280"/>
            <a:ext cx="38624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Program Install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4C9F-3D87-4BBA-8D6A-01160E59D0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39680" y="2905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905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843280" y="152280"/>
            <a:ext cx="38624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Program Install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476280" y="1332000"/>
            <a:ext cx="58579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Finish Program Install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T&amp;A program install is finish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Refer to the user’s guide for program usag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692280" y="7956720"/>
            <a:ext cx="5545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Finish installation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3520" y="2808360"/>
          <a:ext cx="5790960" cy="435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808360"/>
                    <a:ext cx="579096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0152-6CA4-41D0-A044-052EB71BCC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39680" y="2905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905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213000" y="152280"/>
            <a:ext cx="31878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Program Remova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476280" y="1332000"/>
            <a:ext cx="58579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Program Remova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Start-&gt;T&amp;A Program-&gt;remove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Fp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Wor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All set program will be remov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Back up data to preserve existing database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692280" y="8299440"/>
            <a:ext cx="5545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Program removal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09480" y="3276720"/>
          <a:ext cx="5639040" cy="42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276720"/>
                    <a:ext cx="563904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AA0C-1B9D-4B8A-9C11-6A12080EF6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07:02:23Z</dcterms:created>
  <dc:creator>uc</dc:creator>
  <dc:description/>
  <dc:language>en-US</dc:language>
  <cp:lastModifiedBy>전재라</cp:lastModifiedBy>
  <dcterms:modified xsi:type="dcterms:W3CDTF">2006-07-27T07:34:51Z</dcterms:modified>
  <cp:revision>48</cp:revision>
  <dc:subject/>
  <dc:title>PowerPoint 프레젠테이션</dc:title>
</cp:coreProperties>
</file>