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6858000" cy="9144000"/>
  <p:notesSz cx="6807200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61E3-F259-4BF2-92E0-E87BD7BE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C4C-A963-41E3-BCCD-F896E2D8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7BE2-4574-4329-8A39-2F70FEF6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5C2-8CE5-4532-8F43-565138D3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D43-89EA-4C0E-A91B-CD1D7158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F7E-E847-426C-B093-4C643ACF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826-FA5B-4AE2-A0C7-44EDF013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6BA-3329-49A5-9ABC-859C5C2A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14440" y="810720"/>
            <a:ext cx="5829120" cy="708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EF07-AFE6-4BB8-AAAC-5578C6CE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51B-0924-4669-9DC0-B3C6826C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0E90-F245-4EB3-85A2-E5FE3179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B05-6C3E-41E3-98B9-93E58A6F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2920"/>
            <a:ext cx="14288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2920"/>
            <a:ext cx="217152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28800" y="8840880"/>
            <a:ext cx="14288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8795-24AE-42A6-8B45-32D105BF9B1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6360" y="34920"/>
          <a:ext cx="1447920" cy="4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60" y="349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7560" y="900000"/>
            <a:ext cx="576108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Fingerprint Authentic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Time &amp; Attendance System (FpWork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굴림"/>
              </a:rPr>
              <a:t>User’s guide (Ver 2.xx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49360" y="8109000"/>
            <a:ext cx="57610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  Basic  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1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563904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60280" y="900000"/>
            <a:ext cx="6408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You can set “off-day” only after registering off day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off-day means regular off-day (ex. Sunday). And it is different from holiday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“Process option if work in” is how to process working time during ‘off-day’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Ignore working hours: Ignore attendance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Usual daily working T&amp;A: Process it as usual working day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Usual off-day: Calculate every working time and add up into off-day working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The code of working day, off-day, holiday, vacation, business trip should be 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 different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1128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7. Register off-da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136600" y="8001000"/>
            <a:ext cx="280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Off-day registration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905280" y="34920"/>
            <a:ext cx="2952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10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6238800" cy="45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EA72-82CE-42D8-9173-A179069F8A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1128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8. Register holida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8229600"/>
            <a:ext cx="3124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Holiday working registration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260280" y="900000"/>
            <a:ext cx="6408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set holiday only after registering holiday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Refer to the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T&amp;A time setting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for holiday T&amp;A sett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Holiday have priority over off-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The code of working day, off-day, holiday, vacation, business trip should b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different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4920"/>
            <a:ext cx="29275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9" name="공휴일근태" descr=""/>
          <p:cNvPicPr/>
          <p:nvPr/>
        </p:nvPicPr>
        <p:blipFill>
          <a:blip r:embed="rId1"/>
          <a:stretch/>
        </p:blipFill>
        <p:spPr>
          <a:xfrm>
            <a:off x="304920" y="3191040"/>
            <a:ext cx="6229080" cy="48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8998-B595-482C-BBE7-27D5CC2516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60280" y="971640"/>
            <a:ext cx="633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ould register all kinds of vacation and use them for schedulin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8436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9. Register va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1773360" y="4140360"/>
            <a:ext cx="280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Register vacation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1844640" y="8675640"/>
            <a:ext cx="280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Register business trip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233280" y="5146560"/>
            <a:ext cx="633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You could register all kinds of vacation and use them for schedulin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-27000" y="485928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0. Register Business tr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76320"/>
            <a:ext cx="2952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7" name="12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3581640" cy="3008160"/>
          </a:xfrm>
          <a:prstGeom prst="rect">
            <a:avLst/>
          </a:prstGeom>
          <a:ln w="0">
            <a:noFill/>
          </a:ln>
        </p:spPr>
      </p:pic>
      <p:pic>
        <p:nvPicPr>
          <p:cNvPr id="108" name="13" descr=""/>
          <p:cNvPicPr/>
          <p:nvPr/>
        </p:nvPicPr>
        <p:blipFill>
          <a:blip r:embed="rId2"/>
          <a:stretch/>
        </p:blipFill>
        <p:spPr>
          <a:xfrm>
            <a:off x="1523880" y="5562720"/>
            <a:ext cx="3657600" cy="307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9F62-EDA7-49D7-91A9-54ACFBB75C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0280" y="898560"/>
            <a:ext cx="6337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o set work schedule of chosen employe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Press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Setting Period]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utton after setting period of T&amp;A schedu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nput screen which is possible to input T&amp;A code directly is appear when you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double click the item or use right-side button of the mouse. Input T&amp;A cod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You can change the date by using up-down curso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see employees registered on employee list when you select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department. And select the employee. (Check all employees when you choose all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To save all settings by pressing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Save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butt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(The working schedule will not be saved before you save settings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1128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1.  Work schedule sett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2060640" y="8229600"/>
            <a:ext cx="280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Department T&amp;A setting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76320"/>
            <a:ext cx="2952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14" descr=""/>
          <p:cNvPicPr/>
          <p:nvPr/>
        </p:nvPicPr>
        <p:blipFill>
          <a:blip r:embed="rId1"/>
          <a:stretch/>
        </p:blipFill>
        <p:spPr>
          <a:xfrm>
            <a:off x="304920" y="3352680"/>
            <a:ext cx="6319800" cy="469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1980-9833-4199-B8A0-2AE34C4FA9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60280" y="971640"/>
            <a:ext cx="63374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select T&amp;A mode by double-clicking the item or click the right-side butt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of the mouse when changing T&amp;A setting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see every T&amp;A(working day, off-day, holiday, vacation, and business trip)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on combo b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– The code will be changed automatically when you select T&amp;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(The code is set as working day-1, off-day-2, holiday-3, vacation-4, busines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trip-5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8436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1-1. Choose T&amp;A on work sett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1844640" y="4573440"/>
            <a:ext cx="2808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T&amp;A setting combo box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435640"/>
            <a:ext cx="6524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1-2. Register T&amp;A code directl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60280" y="5796000"/>
            <a:ext cx="6337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move the input screen by clicking up-down cursor after the input screen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appeare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The code which is input directly have priority over selected T&amp;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There will be an error if there’s something wrong with code like a unregistered cod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1484280" y="8439120"/>
            <a:ext cx="410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Code input screen on direct input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76320"/>
            <a:ext cx="2952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4343400" cy="2103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90720" y="6781680"/>
            <a:ext cx="497196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0BB1-148D-4C53-BA94-A1CD9B3BDF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60280" y="971640"/>
            <a:ext cx="6337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function to find specific department among all department organiz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see all sub-department by clicking [+] tap in front of department na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only can see the department which is registered on department input menu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Press OK button after selecting department. (You can not choose ‘OK’ if you double-click i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8436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1-3. Find Dep’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2062080" y="6796080"/>
            <a:ext cx="280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Find Dep’t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76320"/>
            <a:ext cx="2952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7" name="17" descr=""/>
          <p:cNvPicPr/>
          <p:nvPr/>
        </p:nvPicPr>
        <p:blipFill>
          <a:blip r:embed="rId1"/>
          <a:stretch/>
        </p:blipFill>
        <p:spPr>
          <a:xfrm>
            <a:off x="2004840" y="2565360"/>
            <a:ext cx="2846520" cy="401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EC5-F068-480E-9B87-A2B9F0F61D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0280" y="971640"/>
            <a:ext cx="6337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elect employee by running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[Find employee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Press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[Date setting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button after setting modifying period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Press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[Save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button after finishing modify T&amp;A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(T&amp;A will not be changed unless you select “save”)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8436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2.  Modify T&amp;A schedu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2060640" y="8534520"/>
            <a:ext cx="280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T&amp;A schedule modify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76320"/>
            <a:ext cx="2952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2" name="18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4510080" cy="65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46C-D7C7-4F8E-933E-0AD08C1006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60280" y="1185840"/>
            <a:ext cx="626436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see employee number, name, social number of registered employe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elect employee and press ok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search employees who have same name by their social number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98560"/>
            <a:ext cx="6669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2-1. Find Employe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7924680"/>
            <a:ext cx="2808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Find employee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76320"/>
            <a:ext cx="2952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7" name="19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4286160" cy="464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84E-74D1-4DAE-97EE-CE1515C7FE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0280" y="1042920"/>
            <a:ext cx="633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mport process which import data from FP server database. This function should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preceded for T&amp;A proces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import attendance data. And the data will reflect modified contents b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administrator. Check “delete all modify data” if you don’t want to reflect modifi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cont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5564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-1.  Import entrance dat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4572000"/>
            <a:ext cx="280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Import T&amp;A data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260280" y="6012000"/>
            <a:ext cx="6337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administrator can modify T&amp;A recor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Check employee name and period, and click “view data”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elect data and press delete button to delete records. The record will be initializ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72616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-2. Modify T&amp;A data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T&amp;A Proces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4" name="20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4686480" cy="161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4F90-B71B-4CFA-9E8F-9B980E6E60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0280" y="900000"/>
            <a:ext cx="640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se when you want to change T&amp;A information or when employee information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change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elect employee on ‘Find employee’ menu. And process T&amp;A after setting perio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1128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-4. Personal T&amp;A proces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T&amp;A Proces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4952880"/>
            <a:ext cx="3192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personal T&amp;A process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21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5565600" cy="2982960"/>
          </a:xfrm>
          <a:prstGeom prst="rect">
            <a:avLst/>
          </a:prstGeom>
          <a:ln w="0">
            <a:noFill/>
          </a:ln>
        </p:spPr>
      </p:pic>
      <p:pic>
        <p:nvPicPr>
          <p:cNvPr id="150" name="22" descr=""/>
          <p:cNvPicPr/>
          <p:nvPr/>
        </p:nvPicPr>
        <p:blipFill>
          <a:blip r:embed="rId2"/>
          <a:stretch/>
        </p:blipFill>
        <p:spPr>
          <a:xfrm>
            <a:off x="685800" y="5715000"/>
            <a:ext cx="5565600" cy="298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A73-F8FF-4C10-9C89-6C7E75AAC7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92280" y="34560"/>
            <a:ext cx="252108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3964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476280" y="611280"/>
            <a:ext cx="5977080" cy="83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1. Arrangemen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-1. Register data (set ODBC)   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-2. Modify data (change ODBC)   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2. Program sett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-1. Program outline   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-2. Environment setting  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3. Register T&amp;A informa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1. Register Department 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2. Register Position  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3. Register employee 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4. Register exception time 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5. Set exception time -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6. Register Workday  -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7. Register off-day   -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8. Register holyday --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9. Register vacation--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10. Register business trip 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11. Set T&amp;A schedule  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12. Modify T&amp;A schedule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4. T&amp;A data 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-1. Import entrance data  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-2. Modify entrance data  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-3. All employee T&amp;A process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-4. Personal T&amp;A process  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-5. T&amp;A summary      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-6. Modify T&amp;A output  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-7. Modify T&amp;A summary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5. T&amp;A output 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1. Periodic T&amp;A output  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2. Daily T&amp;A output   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3. Personal T&amp;A output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4. T&amp;A output summary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5. Absent employee output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6. Late employee output  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7. Leaving employee output 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8. Exit employee output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9. Today late employee output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10. Employee info output 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11. T&amp;A schedule output 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12. Transmit T&amp;A output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6. T&amp;A data managemen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6-1. Delete data   -----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6-2. Save data   -----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7. Additional inf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7-1 Main &amp; Extended program info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7-2 Client customizing info 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49F-E0B5-492B-9F2E-8E88DFE2AC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60280" y="900000"/>
            <a:ext cx="6408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To sum up each item within the period as you set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You can see data of one month automatically when you select the month which you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want to check. Data of one month is appear as you set on [setting configuration]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To set a period when you want to set specific period.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1128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-5. T&amp;A summar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1989000" y="4495680"/>
            <a:ext cx="280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T&amp;A summary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29128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-6. Modify T&amp;A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260280" y="5578560"/>
            <a:ext cx="633744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modify attendance and working time after T&amp;A summary proces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elect employee through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Find employee]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nd press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Output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after setting perio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ave all changed settings by pressing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modify]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fter modification is finished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T&amp;A Proces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7" name="월단위처리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5886360" cy="186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4EA-1D02-4F74-A434-1E74EAAE1D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16280" y="5486400"/>
            <a:ext cx="316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Modify T&amp;A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T&amp;A Proces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0" name="24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6148440" cy="4309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38080" y="6629400"/>
            <a:ext cx="4991400" cy="144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1FF-0ECE-425A-BF66-98634869C7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530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-7. Modify T&amp;A summar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260280" y="1819440"/>
            <a:ext cx="63374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ll T&amp;A summary will appear after press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Find employee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and press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Output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after select period you want to summariz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ave all changed information by pressing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Modify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after changing item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1125360" y="5651640"/>
            <a:ext cx="47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Modify T&amp;A summary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T&amp;A Proces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26" descr=""/>
          <p:cNvPicPr/>
          <p:nvPr/>
        </p:nvPicPr>
        <p:blipFill>
          <a:blip r:embed="rId1"/>
          <a:stretch/>
        </p:blipFill>
        <p:spPr>
          <a:xfrm>
            <a:off x="457200" y="3352680"/>
            <a:ext cx="5905440" cy="221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973-872B-45F4-B28D-5B6FE883F1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0280" y="1187280"/>
            <a:ext cx="6381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check T&amp;A output after selecting period when T&amp;A process is finish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see data of specific employee when you appoint department b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selecting[Find Dept.]. It indicates data of employee in Sub-department categ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when you clicking [include sub-dept.]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Report function runs reporting tool which enable to change output data into pri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format or various format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5564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1. T&amp;A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7772400"/>
            <a:ext cx="280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Period T&amp;A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1" name="27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6400800" cy="410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42F-67A0-4C39-9137-71C23EFA21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2280" y="3352680"/>
            <a:ext cx="6477120" cy="4889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73360" y="8459640"/>
            <a:ext cx="352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report print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2362320"/>
            <a:ext cx="936360" cy="504720"/>
          </a:xfrm>
          <a:prstGeom prst="wedgeRoundRectCallout">
            <a:avLst>
              <a:gd name="adj1" fmla="val -8476"/>
              <a:gd name="adj2" fmla="val 1512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int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260280" y="973080"/>
            <a:ext cx="6310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port output data and enable to change format to printing format or etc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t indicates print menu of print function and export menu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84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1-1. Report print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362320"/>
            <a:ext cx="1152720" cy="503280"/>
          </a:xfrm>
          <a:prstGeom prst="wedgeRoundRectCallout">
            <a:avLst>
              <a:gd name="adj1" fmla="val -11296"/>
              <a:gd name="adj2" fmla="val 155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nu for moving scre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3352680"/>
            <a:ext cx="1727280" cy="289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2362320"/>
            <a:ext cx="936720" cy="504720"/>
          </a:xfrm>
          <a:prstGeom prst="wedgeRoundRectCallout">
            <a:avLst>
              <a:gd name="adj1" fmla="val -80337"/>
              <a:gd name="adj2" fmla="val 15471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xpo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2362320"/>
            <a:ext cx="936720" cy="504720"/>
          </a:xfrm>
          <a:prstGeom prst="wedgeRoundRectCallout">
            <a:avLst>
              <a:gd name="adj1" fmla="val -138981"/>
              <a:gd name="adj2" fmla="val 15219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cre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gnif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3352680"/>
            <a:ext cx="2016000" cy="289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2362320"/>
            <a:ext cx="1439640" cy="504720"/>
          </a:xfrm>
          <a:prstGeom prst="wedgeRoundRectCallout">
            <a:avLst>
              <a:gd name="adj1" fmla="val -103583"/>
              <a:gd name="adj2" fmla="val 1437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formation of DB tab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30CB-CA12-4810-8B5C-83BE07D032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628640" y="4211640"/>
            <a:ext cx="352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Print report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260280" y="973080"/>
            <a:ext cx="63104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end output data to registered printer and print i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84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1-2. Print repo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557360" y="8305920"/>
            <a:ext cx="352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Export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260280" y="5221440"/>
            <a:ext cx="6310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o change output data forma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elect forma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elect the form of destin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see file name when you select ‘Disk file’, and press [OK]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(Input file nam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932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1-3. Expo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745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1" name="29-1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4572000" cy="1931760"/>
          </a:xfrm>
          <a:prstGeom prst="rect">
            <a:avLst/>
          </a:prstGeom>
          <a:ln w="0">
            <a:noFill/>
          </a:ln>
        </p:spPr>
      </p:pic>
      <p:pic>
        <p:nvPicPr>
          <p:cNvPr id="192" name="30" descr=""/>
          <p:cNvPicPr/>
          <p:nvPr/>
        </p:nvPicPr>
        <p:blipFill>
          <a:blip r:embed="rId2"/>
          <a:stretch/>
        </p:blipFill>
        <p:spPr>
          <a:xfrm>
            <a:off x="1219320" y="6477120"/>
            <a:ext cx="4446360" cy="157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745-4F69-46A8-8C7D-B940B53BE2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60280" y="1042920"/>
            <a:ext cx="6310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how data of all employee as selected T&amp;A dat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t is sorted by department. It indicates data of sub-department when you sele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departmen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75564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2. Daily T&amp;A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2060640" y="378000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daily T&amp;A output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635360"/>
            <a:ext cx="6524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3. Personal T&amp;A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2205000" y="8153280"/>
            <a:ext cx="280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personal T&amp;A output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0280" y="4923000"/>
            <a:ext cx="63374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how personal output data of selected employe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t is sorted by department. It indicates data of sub-department when you sele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departmen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745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6477120" cy="1420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6567480" cy="20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C0A2-84FE-4ACC-84EC-B542F8E9BF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75564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4. T&amp;A output summar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1916280" y="3809880"/>
            <a:ext cx="316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T&amp;A output summary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260280" y="1042920"/>
            <a:ext cx="6337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hows all T&amp;A data when you select the date and press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Output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t is sorted by department. It indicates data of sub-department when you sele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department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573440"/>
            <a:ext cx="652464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5. Absent employee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260280" y="4862520"/>
            <a:ext cx="633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hows absent employee. Press output after select perio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t is sorted by department. It indicates data of sub-department when you sele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department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1198440" y="8677440"/>
            <a:ext cx="47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absent employee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4267080" y="745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6477120" cy="1649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6096240" cy="298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FE76-4EFC-40FB-AFA7-07AD51EF42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75564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6.  Late employee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60280" y="1044720"/>
            <a:ext cx="6337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hows late employees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268280" y="4500720"/>
            <a:ext cx="47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late employee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148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7. Left employee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260280" y="5437080"/>
            <a:ext cx="633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hows left employee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1197000" y="8381880"/>
            <a:ext cx="4751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late employee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745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5715000" cy="3048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28600" y="5867280"/>
            <a:ext cx="6400800" cy="231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027-165D-4BFE-AFDB-EE68A84144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61128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8. Exit employee data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60280" y="898560"/>
            <a:ext cx="633744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rint list about working out of the offic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need to check [process exit time]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1916280" y="4284720"/>
            <a:ext cx="2808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Exit employee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260280" y="5148360"/>
            <a:ext cx="63374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hows late employee until to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t is possible when the import proces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Be careful when on the import date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85928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9. Today late employee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1989000" y="8602560"/>
            <a:ext cx="280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today late employee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745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6477120" cy="2427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6362640" cy="20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7C38-DCAF-4436-AF77-A37D64E102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8840" y="828720"/>
            <a:ext cx="6410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need to set setting configuration before start the program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need to input password after setting passwor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“Last import process date” means the last date of entrance record which is imported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from FPSERVER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“Last attendance process date” means the final date of the last attendance process. – “Last attendance transfer date” means the final date of the last transferr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attendance dat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“Monthly start date” means the start date of the month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“Entrance mode” sets which mode needs to be certificated as an entran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If you select “Recognize correct entrance mode”, you can set the entrance ti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freely. It is convenient if you select “Recognize all entrance mode” since a us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don’t need to choose a mode every tim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“Lateness allowing time” regard the lateness &amp; leaving early as a normal attendan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in specific time (unit: minute) that you register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3716280" y="8077320"/>
            <a:ext cx="2664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FPWORK environment setting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39640"/>
            <a:ext cx="6477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-2. Setting Configur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Program Sett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789360" y="4213080"/>
            <a:ext cx="28796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f there is not an attendance data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it will not be processed as latenes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or leaving early when it is regard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as basic attendance tim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choose whether you calculate pay money or not when you select calculate pay money. Select it when you need it to reduce process overflow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ave the settings by pressing [change]button after finishing environment chang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" name="2" descr=""/>
          <p:cNvPicPr/>
          <p:nvPr/>
        </p:nvPicPr>
        <p:blipFill>
          <a:blip r:embed="rId1"/>
          <a:stretch/>
        </p:blipFill>
        <p:spPr>
          <a:xfrm>
            <a:off x="380880" y="4191120"/>
            <a:ext cx="331020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E9D0-21B5-4D2C-90D0-8D00DE20D0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5003640"/>
            <a:ext cx="6524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11. Print T&amp;A schedu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1989000" y="8244000"/>
            <a:ext cx="280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T&amp;A schedule print screen 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260280" y="1255680"/>
            <a:ext cx="63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aking list and print all information of registered staff as departmen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96840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10. Employee info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1989000" y="4282920"/>
            <a:ext cx="28083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Employee info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333360" y="5291280"/>
            <a:ext cx="633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rint schedule of employee during specific perio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745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2600" y="1905120"/>
            <a:ext cx="5695920" cy="2247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95200" y="5881680"/>
            <a:ext cx="6334200" cy="21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130-B428-47A5-8EB7-4295D46B91C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68436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12. T&amp;A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260280" y="973080"/>
            <a:ext cx="640872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Transfer processed T&amp;A output and summary to external database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ODBC should be registered on “FpEmit” for external transference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Period should be per month when select transferring T&amp;A output summary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(date will be ignored)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Previous data registered on period that you select will be deleted before data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transference.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5334120"/>
            <a:ext cx="3573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external T&amp;A output transference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745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2" name="41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4606920" cy="172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22B-9636-4C7C-98BE-AD3FC4C17BF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33720" y="5867280"/>
            <a:ext cx="2808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Delete database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260280" y="971640"/>
            <a:ext cx="6337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elete previous data to reduce the size of database and make process time faster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– Please be careful to delete data since all entrance and T&amp;A data will be deleted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before deletion time.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You can save data to check [delete after backup]. Refer to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[6-2. Database 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 backup]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Data saving and database compression should be Microsoft Access 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Database (mdb File)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8436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6-1. Delete dat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74520"/>
            <a:ext cx="3664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T&amp;A data managemen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7" name="42" descr=""/>
          <p:cNvPicPr/>
          <p:nvPr/>
        </p:nvPicPr>
        <p:blipFill>
          <a:blip r:embed="rId1"/>
          <a:stretch/>
        </p:blipFill>
        <p:spPr>
          <a:xfrm>
            <a:off x="838080" y="3235320"/>
            <a:ext cx="5326200" cy="247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BB3-440F-4599-8E71-15FCA26F8FD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60280" y="971640"/>
            <a:ext cx="6337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Function to backup database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The name of backup file will be saved on FpWork_DATE(8 digits).mdb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The last database backup date will be today when you select [Save now]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Data saving and database compression should be Microsoft Access 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Database (mdb File)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8436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6-2. Database backu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057400" y="6629400"/>
            <a:ext cx="280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Database backup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74520"/>
            <a:ext cx="3664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T&amp;A data managemen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2" name="백업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5086440" cy="350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4D3-B59C-4303-871E-FE2339DC5CE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0280" y="971640"/>
            <a:ext cx="63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hows information of main and extend dll program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68436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7-1. Main &amp; extend DLL program info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557360" y="6588000"/>
            <a:ext cx="367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 extend dll info.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87280" y="1765440"/>
            <a:ext cx="6310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hows information and version of main program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7000" y="1476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7-1-1. Main program info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4645080"/>
            <a:ext cx="6310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hows information and version of main program and extend dl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44280" y="435600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7-1-2. Extend DLL info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3670200"/>
            <a:ext cx="367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main program info.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74520"/>
            <a:ext cx="3664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T&amp;A data managemen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2" name="44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4754520" cy="1096920"/>
          </a:xfrm>
          <a:prstGeom prst="rect">
            <a:avLst/>
          </a:prstGeom>
          <a:ln w="0">
            <a:noFill/>
          </a:ln>
        </p:spPr>
      </p:pic>
      <p:pic>
        <p:nvPicPr>
          <p:cNvPr id="263" name="45" descr=""/>
          <p:cNvPicPr/>
          <p:nvPr/>
        </p:nvPicPr>
        <p:blipFill>
          <a:blip r:embed="rId2"/>
          <a:stretch/>
        </p:blipFill>
        <p:spPr>
          <a:xfrm>
            <a:off x="914400" y="5257800"/>
            <a:ext cx="4892760" cy="113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3FF-88BC-47EB-8DB3-CDC9B9C221A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0280" y="1981080"/>
            <a:ext cx="6337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department is used for data sorting and proc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t is sorted by 2 digits number and the total will be 10 digits(20 digits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ub-department will be sorted by sorting code in departme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All department code is 20 digit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The department code of an upper department will not be changed or delete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To change department name is possibl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692360"/>
            <a:ext cx="6477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. Register Departme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406440" y="900000"/>
            <a:ext cx="5975280" cy="576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Registered information of T&amp;A program can output different result as content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Therefore you need to understand it fully and do the registration proces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04640" y="8677440"/>
            <a:ext cx="2953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Register Dept.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60280" y="4067280"/>
            <a:ext cx="633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 indicates employee position as a code for searching and sort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Register positions as the rule of your company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78000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2. Register Employee posi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3789360" y="8677440"/>
            <a:ext cx="280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Register Employee positio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213000" y="34920"/>
            <a:ext cx="3600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3" descr=""/>
          <p:cNvPicPr/>
          <p:nvPr/>
        </p:nvPicPr>
        <p:blipFill>
          <a:blip r:embed="rId1"/>
          <a:stretch/>
        </p:blipFill>
        <p:spPr>
          <a:xfrm>
            <a:off x="304920" y="5181480"/>
            <a:ext cx="3200400" cy="3351240"/>
          </a:xfrm>
          <a:prstGeom prst="rect">
            <a:avLst/>
          </a:prstGeom>
          <a:ln w="0">
            <a:noFill/>
          </a:ln>
        </p:spPr>
      </p:pic>
      <p:pic>
        <p:nvPicPr>
          <p:cNvPr id="64" name="4" descr=""/>
          <p:cNvPicPr/>
          <p:nvPr/>
        </p:nvPicPr>
        <p:blipFill>
          <a:blip r:embed="rId2"/>
          <a:stretch/>
        </p:blipFill>
        <p:spPr>
          <a:xfrm>
            <a:off x="3733920" y="5181480"/>
            <a:ext cx="2928960" cy="335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2359-7C91-4C84-866E-CE07F60F76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60280" y="971640"/>
            <a:ext cx="633744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gister all employees by their employee number, name, social number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department, posi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Register all employees since data of unregistered employee will not be processed. - You can output pay money by inputting payment per hour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But you need to select “Calculate pay money” in Environment setting menu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8436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3.  Register Employe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2060640" y="7453440"/>
            <a:ext cx="280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Register Employe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3860640" y="34920"/>
            <a:ext cx="2953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5" descr=""/>
          <p:cNvPicPr/>
          <p:nvPr/>
        </p:nvPicPr>
        <p:blipFill>
          <a:blip r:embed="rId1"/>
          <a:stretch/>
        </p:blipFill>
        <p:spPr>
          <a:xfrm>
            <a:off x="228600" y="3591000"/>
            <a:ext cx="6372360" cy="37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9928-0E83-4964-ABEB-B0C887C647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60280" y="971640"/>
            <a:ext cx="63374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 shows the employee who is registered on FPSERVER but is not registered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FPWORK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f you select “Use FP ID as an employee no.”, an employee number will be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same as a registered FP I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8436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3-1. Import Employe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3789360" y="34920"/>
            <a:ext cx="3024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060640" y="7812000"/>
            <a:ext cx="2808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Import employee informatio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6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4486320" cy="517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2817-59E8-4946-A28E-D44D7D6B8A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60280" y="898560"/>
            <a:ext cx="6337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ception time means time which is excepted for specific time when you calcul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working tim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choose [except from time1~ to time2], [except time1 after time2]. And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time1, time2 will be different as your cho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except from time1 to time2: except from time1 to time2 in working tim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except working time1 to time2:  except time2 period after time1 since start work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1128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4. Register Exception Tim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1773360" y="7696080"/>
            <a:ext cx="33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register exception time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60640" y="34920"/>
            <a:ext cx="2953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7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5132520" cy="42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B6C-EFEE-4B37-8275-A033872439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0280" y="971640"/>
            <a:ext cx="63374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 is used for register working day, off-day, and holi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“in-time zone” and “out-time zone” is a setting to set attendance time zone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leaving time zone. And the time which is not in those time zone will not be regar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as attendan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n-time zone : time zone which is regarded as attendance. And the initial entran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record will be regarded as an attendan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out-time zone : time zone which is regarded as a leaving time. And the final leav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record will be regarded as a leav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working time : the working time should be within in-time zone, and it is calcul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as chosen option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exception time : It will be excepted as chosen exception time. (you can choose up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to 5 options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84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5. T&amp;A time sett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989000" y="8458200"/>
            <a:ext cx="280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T&amp;A time setting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3860640" y="34920"/>
            <a:ext cx="2953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4" name="8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4651560" cy="450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991-837D-4752-8BEE-ED5A5DDF52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0280" y="971640"/>
            <a:ext cx="6337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register working day only after setting working 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Working day code will be 4 digits of number and English characte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working day name will appear in working name when you print i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Refer to the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T&amp;A time setting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to set working day T&amp;A tim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The code of daily work, holiday, off-day, vacation, business trip should be different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84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6. Register daily wor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1989000" y="8001000"/>
            <a:ext cx="280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register daily work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3860640" y="34920"/>
            <a:ext cx="2953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9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6238800" cy="451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E69-4026-495B-B35D-DF830251AF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07:02:23Z</dcterms:created>
  <dc:creator>uc</dc:creator>
  <dc:description/>
  <dc:language>en-US</dc:language>
  <cp:lastModifiedBy>전재라</cp:lastModifiedBy>
  <dcterms:modified xsi:type="dcterms:W3CDTF">2006-07-26T10:44:21Z</dcterms:modified>
  <cp:revision>278</cp:revision>
  <dc:subject/>
  <dc:title>PowerPoint 프레젠테이션</dc:title>
</cp:coreProperties>
</file>